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E9B-9C2D-49EE-AD5F-CB7EDCAB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6FA-A1CC-41BF-AF2B-2E7BB05D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A6A-B52A-43E9-B153-DAAA5254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D48-5055-4C91-88F3-978A4E11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F2CE-F9B1-4762-917E-44D20E07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8D02-7928-49EF-B2F9-62EEFFCD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7DCE-D723-4E79-81C5-E5C0A3F3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3D86-481E-4692-9A53-1CA5B698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14BC-5937-4B71-87D8-683CBD3D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1623-D0E7-49FF-B494-29445C7F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FB6F-558E-4E48-8815-7DC0A20D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F0C-9832-4F4F-A965-B9B908B9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88FB-5156-4C6A-849A-9E842BC5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D7B6-3A91-4DB7-89F6-CA17E7EC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8D5E-4BB8-441F-8354-AD48A99C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4D5E-0D7B-41E1-AB32-EF33F849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D9E1-1D56-4BB8-AAC9-FD5685F4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878-41C2-4B3C-878E-E69F437A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3A6-57E1-4738-B0EB-94B5D457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962-03C0-479A-9745-361B38FD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964-3909-44D2-A5F7-D6876372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25E-8B6F-4BE4-AF37-111232D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DFC-6C44-4ECC-B1F7-A8F3A12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EA5-7CF4-45B9-8BA1-8A447825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61F8-5507-4F83-BC6E-07199DA2CB9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9ADA-B77C-4DE8-A906-0932DE312CFB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LAM en activité au LAAS : SEGKIT/SEGLO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incipe géné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gorith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711760" y="5054760"/>
            <a:ext cx="85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510320" y="439416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635800" y="3381840"/>
            <a:ext cx="456840" cy="439920"/>
            <a:chOff x="5635800" y="3381840"/>
            <a:chExt cx="456840" cy="439920"/>
          </a:xfrm>
        </p:grpSpPr>
        <p:sp>
          <p:nvSpPr>
            <p:cNvPr id="401" name=""/>
            <p:cNvSpPr/>
            <p:nvPr/>
          </p:nvSpPr>
          <p:spPr>
            <a:xfrm rot="21258600">
              <a:off x="5654520" y="3401640"/>
              <a:ext cx="419040" cy="399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861880" y="3572280"/>
              <a:ext cx="189720" cy="1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3/ carte d’a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5600" y="2068560"/>
            <a:ext cx="327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édiction des segments vis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pti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duction combinato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lcul exact !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7872480" y="375912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24360" y="547380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86240" y="572148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00480" y="6521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53200" y="6407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10160" y="200664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58080" y="28447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15280" y="2311560"/>
            <a:ext cx="0" cy="153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33840" y="1778040"/>
            <a:ext cx="3200400" cy="4876920"/>
            <a:chOff x="5433840" y="1778040"/>
            <a:chExt cx="3200400" cy="4876920"/>
          </a:xfrm>
        </p:grpSpPr>
        <p:sp>
          <p:nvSpPr>
            <p:cNvPr id="414" name=""/>
            <p:cNvSpPr/>
            <p:nvPr/>
          </p:nvSpPr>
          <p:spPr>
            <a:xfrm flipV="1">
              <a:off x="5814720" y="1854360"/>
              <a:ext cx="1219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14720" y="2158920"/>
              <a:ext cx="175284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814720" y="2158920"/>
              <a:ext cx="21337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814720" y="2692440"/>
              <a:ext cx="2667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14720" y="3606840"/>
              <a:ext cx="2819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14720" y="3606840"/>
              <a:ext cx="2819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14720" y="3606840"/>
              <a:ext cx="2362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14720" y="3606840"/>
              <a:ext cx="22860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14720" y="3606840"/>
              <a:ext cx="21337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14720" y="3606840"/>
              <a:ext cx="152424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14720" y="3606840"/>
              <a:ext cx="45720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5433840" y="1778040"/>
              <a:ext cx="3808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585760" y="3606840"/>
              <a:ext cx="22860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10160" y="2006640"/>
            <a:ext cx="2361960" cy="3123720"/>
            <a:chOff x="5510160" y="2006640"/>
            <a:chExt cx="2361960" cy="3123720"/>
          </a:xfrm>
        </p:grpSpPr>
        <p:sp>
          <p:nvSpPr>
            <p:cNvPr id="428" name=""/>
            <p:cNvSpPr/>
            <p:nvPr/>
          </p:nvSpPr>
          <p:spPr>
            <a:xfrm>
              <a:off x="5510160" y="200664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4920" y="2311200"/>
              <a:ext cx="0" cy="22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7720" y="284472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14920" y="2997000"/>
              <a:ext cx="0" cy="83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72120" y="391140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91240" y="436860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38760" y="505440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rot="21293400">
            <a:off x="5702040" y="3013200"/>
            <a:ext cx="30456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54440" y="321948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78520" y="3981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040360" y="1973160"/>
            <a:ext cx="154080" cy="3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26440" y="252252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88480" y="482904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4/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groupement angulai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10720" y="1941480"/>
            <a:ext cx="814068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haque couple d’appariements -&gt; 1 hypothèse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binatoire importa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titionnement des appariements en groupe angulairement compati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898640" y="3962520"/>
            <a:ext cx="2470320" cy="2898000"/>
            <a:chOff x="1898640" y="3962520"/>
            <a:chExt cx="2470320" cy="2898000"/>
          </a:xfrm>
        </p:grpSpPr>
        <p:sp>
          <p:nvSpPr>
            <p:cNvPr id="444" name=""/>
            <p:cNvSpPr/>
            <p:nvPr/>
          </p:nvSpPr>
          <p:spPr>
            <a:xfrm>
              <a:off x="1898640" y="438624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6040" y="48434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55840" y="629136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6960" y="39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1436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38200" y="6400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49120" y="4649040"/>
            <a:ext cx="3106800" cy="1677960"/>
            <a:chOff x="249120" y="4649040"/>
            <a:chExt cx="3106800" cy="1677960"/>
          </a:xfrm>
        </p:grpSpPr>
        <p:sp>
          <p:nvSpPr>
            <p:cNvPr id="451" name=""/>
            <p:cNvSpPr/>
            <p:nvPr/>
          </p:nvSpPr>
          <p:spPr>
            <a:xfrm>
              <a:off x="2987640" y="51814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70600" y="58672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709560" y="4649040"/>
              <a:ext cx="2248560" cy="1218960"/>
              <a:chOff x="709560" y="4649040"/>
              <a:chExt cx="2248560" cy="121896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709560" y="4649040"/>
                <a:ext cx="1467000" cy="1218960"/>
                <a:chOff x="709560" y="4649040"/>
                <a:chExt cx="1467000" cy="1218960"/>
              </a:xfrm>
            </p:grpSpPr>
            <p:sp>
              <p:nvSpPr>
                <p:cNvPr id="455" name=""/>
                <p:cNvSpPr/>
                <p:nvPr/>
              </p:nvSpPr>
              <p:spPr>
                <a:xfrm flipH="1">
                  <a:off x="1243440" y="5865840"/>
                  <a:ext cx="914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"/>
                <p:cNvGrpSpPr/>
                <p:nvPr/>
              </p:nvGrpSpPr>
              <p:grpSpPr>
                <a:xfrm>
                  <a:off x="1511640" y="4649040"/>
                  <a:ext cx="399600" cy="418680"/>
                  <a:chOff x="1511640" y="4649040"/>
                  <a:chExt cx="399600" cy="41868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5400000">
                    <a:off x="1501920" y="465840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721160" y="4858200"/>
                    <a:ext cx="0" cy="190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459" name=""/>
                <p:cNvCxnSpPr>
                  <a:stCxn id="458" idx="0"/>
                  <a:endCxn id="455" idx="0"/>
                </p:cNvCxnSpPr>
                <p:nvPr/>
              </p:nvCxnSpPr>
              <p:spPr>
                <a:xfrm>
                  <a:off x="1724040" y="4860000"/>
                  <a:ext cx="452880" cy="1008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460" name=""/>
                <p:cNvCxnSpPr>
                  <a:stCxn id="458" idx="0"/>
                  <a:endCxn id="455" idx="1"/>
                </p:cNvCxnSpPr>
                <p:nvPr/>
              </p:nvCxnSpPr>
              <p:spPr>
                <a:xfrm flipH="1">
                  <a:off x="1225440" y="4860000"/>
                  <a:ext cx="498960" cy="1008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461" name=""/>
                <p:cNvSpPr/>
                <p:nvPr/>
              </p:nvSpPr>
              <p:spPr>
                <a:xfrm flipV="1">
                  <a:off x="709560" y="495180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62" name=""/>
                <p:cNvCxnSpPr>
                  <a:stCxn id="458" idx="0"/>
                  <a:endCxn id="461" idx="0"/>
                </p:cNvCxnSpPr>
                <p:nvPr/>
              </p:nvCxnSpPr>
              <p:spPr>
                <a:xfrm flipH="1">
                  <a:off x="709920" y="4860000"/>
                  <a:ext cx="1014840" cy="4161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463" name=""/>
                <p:cNvCxnSpPr>
                  <a:stCxn id="458" idx="0"/>
                  <a:endCxn id="461" idx="1"/>
                </p:cNvCxnSpPr>
                <p:nvPr/>
              </p:nvCxnSpPr>
              <p:spPr>
                <a:xfrm flipH="1">
                  <a:off x="709920" y="4860360"/>
                  <a:ext cx="1014840" cy="730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464" name=""/>
              <p:cNvSpPr/>
              <p:nvPr/>
            </p:nvSpPr>
            <p:spPr>
              <a:xfrm>
                <a:off x="2938320" y="5181480"/>
                <a:ext cx="0" cy="45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5" name=""/>
              <p:cNvCxnSpPr>
                <a:stCxn id="458" idx="0"/>
                <a:endCxn id="464" idx="0"/>
              </p:cNvCxnSpPr>
              <p:nvPr/>
            </p:nvCxnSpPr>
            <p:spPr>
              <a:xfrm>
                <a:off x="1722600" y="4855680"/>
                <a:ext cx="1197360" cy="7830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466" name=""/>
              <p:cNvCxnSpPr>
                <a:stCxn id="458" idx="0"/>
                <a:endCxn id="464" idx="0"/>
              </p:cNvCxnSpPr>
              <p:nvPr/>
            </p:nvCxnSpPr>
            <p:spPr>
              <a:xfrm>
                <a:off x="1722600" y="4855680"/>
                <a:ext cx="1235880" cy="325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467" name=""/>
            <p:cNvSpPr/>
            <p:nvPr/>
          </p:nvSpPr>
          <p:spPr>
            <a:xfrm>
              <a:off x="249120" y="48765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075280" y="4492800"/>
            <a:ext cx="3660840" cy="1523880"/>
            <a:chOff x="5075280" y="4492800"/>
            <a:chExt cx="3660840" cy="1523880"/>
          </a:xfrm>
        </p:grpSpPr>
        <p:sp>
          <p:nvSpPr>
            <p:cNvPr id="469" name=""/>
            <p:cNvSpPr/>
            <p:nvPr/>
          </p:nvSpPr>
          <p:spPr>
            <a:xfrm>
              <a:off x="5075280" y="4492800"/>
              <a:ext cx="34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ngle     0     90     180     2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78080" y="4999320"/>
              <a:ext cx="2753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b,1)   (c,1)   (a,1)  (b,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c,2)   (a,2)   (b,3)  (c,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a,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78520" y="48736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6432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012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1188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7400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4/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groupement angulai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méthode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alman (distance de mahalanob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onnement de l’histogram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321000" y="44895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44680" y="5708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66640" y="57085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37520" y="439272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76000" y="57085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         90        180       2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21000" y="4552920"/>
            <a:ext cx="2819520" cy="1168560"/>
          </a:xfrm>
          <a:custGeom>
            <a:avLst/>
            <a:gdLst/>
            <a:ahLst/>
            <a:rect l="l" t="t" r="r" b="b"/>
            <a:pathLst>
              <a:path w="1776" h="736">
                <a:moveTo>
                  <a:pt x="0" y="296"/>
                </a:moveTo>
                <a:cubicBezTo>
                  <a:pt x="36" y="292"/>
                  <a:pt x="72" y="288"/>
                  <a:pt x="96" y="344"/>
                </a:cubicBezTo>
                <a:cubicBezTo>
                  <a:pt x="120" y="400"/>
                  <a:pt x="128" y="592"/>
                  <a:pt x="144" y="632"/>
                </a:cubicBezTo>
                <a:cubicBezTo>
                  <a:pt x="160" y="672"/>
                  <a:pt x="160" y="576"/>
                  <a:pt x="192" y="584"/>
                </a:cubicBezTo>
                <a:cubicBezTo>
                  <a:pt x="224" y="592"/>
                  <a:pt x="296" y="736"/>
                  <a:pt x="336" y="680"/>
                </a:cubicBezTo>
                <a:cubicBezTo>
                  <a:pt x="376" y="624"/>
                  <a:pt x="408" y="312"/>
                  <a:pt x="432" y="248"/>
                </a:cubicBezTo>
                <a:cubicBezTo>
                  <a:pt x="456" y="184"/>
                  <a:pt x="464" y="312"/>
                  <a:pt x="480" y="296"/>
                </a:cubicBezTo>
                <a:cubicBezTo>
                  <a:pt x="496" y="280"/>
                  <a:pt x="496" y="104"/>
                  <a:pt x="528" y="152"/>
                </a:cubicBezTo>
                <a:cubicBezTo>
                  <a:pt x="560" y="200"/>
                  <a:pt x="640" y="512"/>
                  <a:pt x="672" y="584"/>
                </a:cubicBezTo>
                <a:cubicBezTo>
                  <a:pt x="704" y="656"/>
                  <a:pt x="696" y="568"/>
                  <a:pt x="720" y="584"/>
                </a:cubicBezTo>
                <a:cubicBezTo>
                  <a:pt x="744" y="600"/>
                  <a:pt x="784" y="736"/>
                  <a:pt x="816" y="680"/>
                </a:cubicBezTo>
                <a:cubicBezTo>
                  <a:pt x="848" y="624"/>
                  <a:pt x="888" y="312"/>
                  <a:pt x="912" y="248"/>
                </a:cubicBezTo>
                <a:cubicBezTo>
                  <a:pt x="936" y="184"/>
                  <a:pt x="936" y="328"/>
                  <a:pt x="960" y="296"/>
                </a:cubicBezTo>
                <a:cubicBezTo>
                  <a:pt x="984" y="264"/>
                  <a:pt x="1024" y="0"/>
                  <a:pt x="1056" y="56"/>
                </a:cubicBezTo>
                <a:cubicBezTo>
                  <a:pt x="1088" y="112"/>
                  <a:pt x="1136" y="552"/>
                  <a:pt x="1152" y="632"/>
                </a:cubicBezTo>
                <a:cubicBezTo>
                  <a:pt x="1168" y="712"/>
                  <a:pt x="1136" y="536"/>
                  <a:pt x="1152" y="536"/>
                </a:cubicBezTo>
                <a:cubicBezTo>
                  <a:pt x="1168" y="536"/>
                  <a:pt x="1224" y="624"/>
                  <a:pt x="1248" y="632"/>
                </a:cubicBezTo>
                <a:cubicBezTo>
                  <a:pt x="1272" y="640"/>
                  <a:pt x="1264" y="608"/>
                  <a:pt x="1296" y="584"/>
                </a:cubicBezTo>
                <a:cubicBezTo>
                  <a:pt x="1328" y="560"/>
                  <a:pt x="1416" y="544"/>
                  <a:pt x="1440" y="488"/>
                </a:cubicBezTo>
                <a:cubicBezTo>
                  <a:pt x="1464" y="432"/>
                  <a:pt x="1416" y="224"/>
                  <a:pt x="1440" y="248"/>
                </a:cubicBezTo>
                <a:cubicBezTo>
                  <a:pt x="1464" y="272"/>
                  <a:pt x="1544" y="584"/>
                  <a:pt x="1584" y="632"/>
                </a:cubicBezTo>
                <a:cubicBezTo>
                  <a:pt x="1624" y="680"/>
                  <a:pt x="1656" y="592"/>
                  <a:pt x="1680" y="536"/>
                </a:cubicBezTo>
                <a:cubicBezTo>
                  <a:pt x="1704" y="480"/>
                  <a:pt x="1712" y="352"/>
                  <a:pt x="1728" y="296"/>
                </a:cubicBezTo>
                <a:cubicBezTo>
                  <a:pt x="1744" y="240"/>
                  <a:pt x="1760" y="220"/>
                  <a:pt x="1776" y="2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238200" y="4489560"/>
            <a:ext cx="2673720" cy="1371600"/>
            <a:chOff x="3238200" y="4489560"/>
            <a:chExt cx="2673720" cy="1371600"/>
          </a:xfrm>
        </p:grpSpPr>
        <p:sp>
          <p:nvSpPr>
            <p:cNvPr id="485" name=""/>
            <p:cNvSpPr/>
            <p:nvPr/>
          </p:nvSpPr>
          <p:spPr>
            <a:xfrm>
              <a:off x="385452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62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1192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876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4960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020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3820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66800" y="464184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2400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04880" y="464184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6208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71560" y="45655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5/ 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construction hypothè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0932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ur chaque groupe angula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our chaque couple d’appariement non-parallè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struction d’une hypothè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our chaque appariement du grou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nforcement de l’hypothèse avec Kalman : distance mahalanobis sur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droite porteuse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orientation + distance), fu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191120"/>
            <a:ext cx="0" cy="69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875880" y="3206520"/>
            <a:ext cx="1943640" cy="1251000"/>
            <a:chOff x="875880" y="3206520"/>
            <a:chExt cx="1943640" cy="1251000"/>
          </a:xfrm>
        </p:grpSpPr>
        <p:sp>
          <p:nvSpPr>
            <p:cNvPr id="502" name=""/>
            <p:cNvSpPr/>
            <p:nvPr/>
          </p:nvSpPr>
          <p:spPr>
            <a:xfrm>
              <a:off x="2819520" y="4040640"/>
              <a:ext cx="0" cy="18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875880" y="3206520"/>
              <a:ext cx="717840" cy="1251000"/>
              <a:chOff x="875880" y="3206520"/>
              <a:chExt cx="717840" cy="1251000"/>
            </a:xfrm>
          </p:grpSpPr>
          <p:sp>
            <p:nvSpPr>
              <p:cNvPr id="504" name=""/>
              <p:cNvSpPr/>
              <p:nvPr/>
            </p:nvSpPr>
            <p:spPr>
              <a:xfrm>
                <a:off x="887760" y="3206520"/>
                <a:ext cx="694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1257840" y="4203000"/>
                <a:ext cx="243000" cy="254520"/>
                <a:chOff x="1257840" y="4203000"/>
                <a:chExt cx="243000" cy="254520"/>
              </a:xfrm>
            </p:grpSpPr>
            <p:sp>
              <p:nvSpPr>
                <p:cNvPr id="506" name=""/>
                <p:cNvSpPr/>
                <p:nvPr/>
              </p:nvSpPr>
              <p:spPr>
                <a:xfrm rot="16200000">
                  <a:off x="1252080" y="4208760"/>
                  <a:ext cx="254520" cy="2430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1373400" y="4214880"/>
                  <a:ext cx="0" cy="115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08" name=""/>
              <p:cNvCxnSpPr>
                <a:stCxn id="507" idx="0"/>
                <a:endCxn id="504" idx="0"/>
              </p:cNvCxnSpPr>
              <p:nvPr/>
            </p:nvCxnSpPr>
            <p:spPr>
              <a:xfrm flipH="1" flipV="1">
                <a:off x="875880" y="3206880"/>
                <a:ext cx="498240" cy="11242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09" name=""/>
              <p:cNvCxnSpPr>
                <a:stCxn id="507" idx="0"/>
                <a:endCxn id="504" idx="1"/>
              </p:cNvCxnSpPr>
              <p:nvPr/>
            </p:nvCxnSpPr>
            <p:spPr>
              <a:xfrm flipV="1">
                <a:off x="1373760" y="3206880"/>
                <a:ext cx="220320" cy="11242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cxnSp>
          <p:nvCxnSpPr>
            <p:cNvPr id="510" name=""/>
            <p:cNvCxnSpPr>
              <a:endCxn id="502" idx="0"/>
            </p:cNvCxnSpPr>
            <p:nvPr/>
          </p:nvCxnSpPr>
          <p:spPr>
            <a:xfrm flipV="1">
              <a:off x="1370520" y="4028400"/>
              <a:ext cx="1449360" cy="2998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511" name=""/>
            <p:cNvCxnSpPr>
              <a:endCxn id="502" idx="1"/>
            </p:cNvCxnSpPr>
            <p:nvPr/>
          </p:nvCxnSpPr>
          <p:spPr>
            <a:xfrm flipV="1">
              <a:off x="1370520" y="4237200"/>
              <a:ext cx="1449360" cy="9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1371240" y="4325400"/>
            <a:ext cx="991080" cy="1084680"/>
            <a:chOff x="1371240" y="4325400"/>
            <a:chExt cx="991080" cy="1084680"/>
          </a:xfrm>
        </p:grpSpPr>
        <p:sp>
          <p:nvSpPr>
            <p:cNvPr id="513" name=""/>
            <p:cNvSpPr/>
            <p:nvPr/>
          </p:nvSpPr>
          <p:spPr>
            <a:xfrm flipV="1">
              <a:off x="1523880" y="4952880"/>
              <a:ext cx="838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1371240" y="4325400"/>
              <a:ext cx="762480" cy="951840"/>
              <a:chOff x="1371240" y="4325400"/>
              <a:chExt cx="762480" cy="951840"/>
            </a:xfrm>
          </p:grpSpPr>
          <p:sp>
            <p:nvSpPr>
              <p:cNvPr id="515" name=""/>
              <p:cNvSpPr/>
              <p:nvPr/>
            </p:nvSpPr>
            <p:spPr>
              <a:xfrm flipV="1">
                <a:off x="1676520" y="5028840"/>
                <a:ext cx="45720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6" name=""/>
              <p:cNvCxnSpPr>
                <a:stCxn id="507" idx="0"/>
                <a:endCxn id="515" idx="0"/>
              </p:cNvCxnSpPr>
              <p:nvPr/>
            </p:nvCxnSpPr>
            <p:spPr>
              <a:xfrm>
                <a:off x="1371240" y="4325760"/>
                <a:ext cx="305640" cy="951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17" name=""/>
              <p:cNvCxnSpPr>
                <a:stCxn id="507" idx="0"/>
                <a:endCxn id="515" idx="1"/>
              </p:cNvCxnSpPr>
              <p:nvPr/>
            </p:nvCxnSpPr>
            <p:spPr>
              <a:xfrm>
                <a:off x="1371600" y="4325400"/>
                <a:ext cx="761040" cy="685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6/ 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sélection hypothè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. Si tracking 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patibilité avec position estimé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2. Heuristique 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plus grande longueur appariée cumulée (ie, meilleur recouvrement des segm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819520" y="3352680"/>
            <a:ext cx="3323520" cy="3079440"/>
            <a:chOff x="2819520" y="3352680"/>
            <a:chExt cx="3323520" cy="3079440"/>
          </a:xfrm>
        </p:grpSpPr>
        <p:sp>
          <p:nvSpPr>
            <p:cNvPr id="521" name=""/>
            <p:cNvSpPr/>
            <p:nvPr/>
          </p:nvSpPr>
          <p:spPr>
            <a:xfrm>
              <a:off x="2819520" y="38541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86400" y="4844880"/>
              <a:ext cx="0" cy="69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504240" y="3930120"/>
              <a:ext cx="1944000" cy="1251000"/>
              <a:chOff x="3504240" y="3930120"/>
              <a:chExt cx="1944000" cy="1251000"/>
            </a:xfrm>
          </p:grpSpPr>
          <p:sp>
            <p:nvSpPr>
              <p:cNvPr id="524" name=""/>
              <p:cNvSpPr/>
              <p:nvPr/>
            </p:nvSpPr>
            <p:spPr>
              <a:xfrm>
                <a:off x="5447880" y="4764240"/>
                <a:ext cx="0" cy="18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3504240" y="3930120"/>
                <a:ext cx="717120" cy="1251000"/>
                <a:chOff x="3504240" y="3930120"/>
                <a:chExt cx="717120" cy="12510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516480" y="3930120"/>
                  <a:ext cx="6937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886200" y="4926600"/>
                  <a:ext cx="242640" cy="254520"/>
                  <a:chOff x="3886200" y="4926600"/>
                  <a:chExt cx="242640" cy="25452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16200000">
                    <a:off x="3880080" y="4932360"/>
                    <a:ext cx="254520" cy="24264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4001760" y="4938480"/>
                    <a:ext cx="0" cy="1155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30" name=""/>
                <p:cNvCxnSpPr>
                  <a:stCxn id="529" idx="0"/>
                  <a:endCxn id="526" idx="0"/>
                </p:cNvCxnSpPr>
                <p:nvPr/>
              </p:nvCxnSpPr>
              <p:spPr>
                <a:xfrm flipH="1" flipV="1">
                  <a:off x="3504240" y="3930480"/>
                  <a:ext cx="497880" cy="1124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531" name=""/>
                <p:cNvCxnSpPr>
                  <a:stCxn id="529" idx="0"/>
                  <a:endCxn id="526" idx="1"/>
                </p:cNvCxnSpPr>
                <p:nvPr/>
              </p:nvCxnSpPr>
              <p:spPr>
                <a:xfrm flipV="1">
                  <a:off x="4001760" y="3930480"/>
                  <a:ext cx="219960" cy="1124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cxnSp>
            <p:nvCxnSpPr>
              <p:cNvPr id="532" name=""/>
              <p:cNvCxnSpPr>
                <a:endCxn id="524" idx="0"/>
              </p:cNvCxnSpPr>
              <p:nvPr/>
            </p:nvCxnSpPr>
            <p:spPr>
              <a:xfrm flipV="1">
                <a:off x="3999240" y="4752000"/>
                <a:ext cx="1449360" cy="299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33" name=""/>
              <p:cNvCxnSpPr>
                <a:endCxn id="524" idx="1"/>
              </p:cNvCxnSpPr>
              <p:nvPr/>
            </p:nvCxnSpPr>
            <p:spPr>
              <a:xfrm flipV="1">
                <a:off x="3999240" y="4960800"/>
                <a:ext cx="1449360" cy="91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grpSp>
          <p:nvGrpSpPr>
            <p:cNvPr id="534" name=""/>
            <p:cNvGrpSpPr/>
            <p:nvPr/>
          </p:nvGrpSpPr>
          <p:grpSpPr>
            <a:xfrm>
              <a:off x="3999960" y="5049360"/>
              <a:ext cx="990360" cy="1083600"/>
              <a:chOff x="3999960" y="5049360"/>
              <a:chExt cx="990360" cy="1083600"/>
            </a:xfrm>
          </p:grpSpPr>
          <p:sp>
            <p:nvSpPr>
              <p:cNvPr id="535" name=""/>
              <p:cNvSpPr/>
              <p:nvPr/>
            </p:nvSpPr>
            <p:spPr>
              <a:xfrm flipV="1">
                <a:off x="4152240" y="5676120"/>
                <a:ext cx="83808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3999960" y="5049360"/>
                <a:ext cx="761760" cy="951120"/>
                <a:chOff x="3999960" y="5049360"/>
                <a:chExt cx="761760" cy="951120"/>
              </a:xfrm>
            </p:grpSpPr>
            <p:sp>
              <p:nvSpPr>
                <p:cNvPr id="537" name=""/>
                <p:cNvSpPr/>
                <p:nvPr/>
              </p:nvSpPr>
              <p:spPr>
                <a:xfrm flipV="1">
                  <a:off x="4304880" y="5752800"/>
                  <a:ext cx="456840" cy="228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38" name=""/>
                <p:cNvCxnSpPr>
                  <a:stCxn id="529" idx="0"/>
                  <a:endCxn id="537" idx="0"/>
                </p:cNvCxnSpPr>
                <p:nvPr/>
              </p:nvCxnSpPr>
              <p:spPr>
                <a:xfrm>
                  <a:off x="4000320" y="5049360"/>
                  <a:ext cx="305280" cy="9514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539" name=""/>
                <p:cNvCxnSpPr>
                  <a:stCxn id="529" idx="0"/>
                  <a:endCxn id="537" idx="1"/>
                </p:cNvCxnSpPr>
                <p:nvPr/>
              </p:nvCxnSpPr>
              <p:spPr>
                <a:xfrm>
                  <a:off x="3999960" y="5049720"/>
                  <a:ext cx="760680" cy="68472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</p:grpSp>
        <p:sp>
          <p:nvSpPr>
            <p:cNvPr id="540" name=""/>
            <p:cNvSpPr/>
            <p:nvPr/>
          </p:nvSpPr>
          <p:spPr>
            <a:xfrm>
              <a:off x="3504960" y="3701880"/>
              <a:ext cx="0" cy="228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86200" y="3701880"/>
              <a:ext cx="0" cy="228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04960" y="3777840"/>
              <a:ext cx="3808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6400" y="4844880"/>
              <a:ext cx="151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86400" y="4920840"/>
              <a:ext cx="151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62360" y="4844880"/>
              <a:ext cx="0" cy="759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43400" y="5987880"/>
              <a:ext cx="75600" cy="152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00600" y="5759280"/>
              <a:ext cx="75600" cy="152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419360" y="5911200"/>
              <a:ext cx="4568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4800" y="335268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10680" y="476856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91360" y="606384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5338440" y="37339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 = L1 +L2 +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7/ Mise à jour de la car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i mise à jour de la ca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usion segments appari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jout nouveaux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8/ Calcul correction od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position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corrigée est déjà caduque lorsqu’elle est calcul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alcul de l’erreur sur l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epèr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o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322000" y="5181480"/>
            <a:ext cx="954720" cy="1254960"/>
            <a:chOff x="2322000" y="5181480"/>
            <a:chExt cx="954720" cy="1254960"/>
          </a:xfrm>
        </p:grpSpPr>
        <p:grpSp>
          <p:nvGrpSpPr>
            <p:cNvPr id="558" name=""/>
            <p:cNvGrpSpPr/>
            <p:nvPr/>
          </p:nvGrpSpPr>
          <p:grpSpPr>
            <a:xfrm>
              <a:off x="2514960" y="5181480"/>
              <a:ext cx="761760" cy="914400"/>
              <a:chOff x="2514960" y="5181480"/>
              <a:chExt cx="761760" cy="91440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2514960" y="518148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14960" y="609588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2322000" y="597672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725480" y="5105520"/>
            <a:ext cx="1627200" cy="1069200"/>
            <a:chOff x="1725480" y="5105520"/>
            <a:chExt cx="1627200" cy="1069200"/>
          </a:xfrm>
        </p:grpSpPr>
        <p:grpSp>
          <p:nvGrpSpPr>
            <p:cNvPr id="563" name=""/>
            <p:cNvGrpSpPr/>
            <p:nvPr/>
          </p:nvGrpSpPr>
          <p:grpSpPr>
            <a:xfrm>
              <a:off x="2590560" y="5105520"/>
              <a:ext cx="762120" cy="914400"/>
              <a:chOff x="2590560" y="5105520"/>
              <a:chExt cx="762120" cy="91440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2590560" y="5105520"/>
                <a:ext cx="0" cy="91440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90560" y="6019920"/>
                <a:ext cx="762120" cy="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725480" y="571500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e4a8"/>
                  </a:solidFill>
                  <a:latin typeface="Tahoma"/>
                </a:rPr>
                <a:t>o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486400" y="4648320"/>
            <a:ext cx="419040" cy="399960"/>
            <a:chOff x="5486400" y="4648320"/>
            <a:chExt cx="419040" cy="399960"/>
          </a:xfrm>
        </p:grpSpPr>
        <p:sp>
          <p:nvSpPr>
            <p:cNvPr id="568" name=""/>
            <p:cNvSpPr/>
            <p:nvPr/>
          </p:nvSpPr>
          <p:spPr>
            <a:xfrm>
              <a:off x="5486400" y="4648320"/>
              <a:ext cx="419040" cy="399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95920" y="4838760"/>
              <a:ext cx="190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800600" y="4495680"/>
            <a:ext cx="2184480" cy="812880"/>
          </a:xfrm>
          <a:custGeom>
            <a:avLst/>
            <a:gdLst/>
            <a:ahLst/>
            <a:rect l="l" t="t" r="r" b="b"/>
            <a:pathLst>
              <a:path w="1376" h="512">
                <a:moveTo>
                  <a:pt x="0" y="512"/>
                </a:moveTo>
                <a:cubicBezTo>
                  <a:pt x="24" y="392"/>
                  <a:pt x="48" y="272"/>
                  <a:pt x="192" y="224"/>
                </a:cubicBezTo>
                <a:cubicBezTo>
                  <a:pt x="336" y="176"/>
                  <a:pt x="680" y="256"/>
                  <a:pt x="864" y="224"/>
                </a:cubicBezTo>
                <a:cubicBezTo>
                  <a:pt x="1048" y="192"/>
                  <a:pt x="1216" y="64"/>
                  <a:pt x="1296" y="32"/>
                </a:cubicBezTo>
                <a:cubicBezTo>
                  <a:pt x="1376" y="0"/>
                  <a:pt x="1360" y="16"/>
                  <a:pt x="1344" y="3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3321000" y="4608720"/>
            <a:ext cx="543240" cy="533160"/>
            <a:chOff x="3321000" y="4608720"/>
            <a:chExt cx="543240" cy="533160"/>
          </a:xfrm>
        </p:grpSpPr>
        <p:sp>
          <p:nvSpPr>
            <p:cNvPr id="572" name=""/>
            <p:cNvSpPr/>
            <p:nvPr/>
          </p:nvSpPr>
          <p:spPr>
            <a:xfrm rot="20199600">
              <a:off x="3382920" y="4674960"/>
              <a:ext cx="419040" cy="399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588840" y="4791240"/>
              <a:ext cx="174600" cy="75240"/>
            </a:xfrm>
            <a:prstGeom prst="line">
              <a:avLst/>
            </a:prstGeom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 rot="20199600">
            <a:off x="2701800" y="4439880"/>
            <a:ext cx="2184480" cy="812880"/>
          </a:xfrm>
          <a:custGeom>
            <a:avLst/>
            <a:gdLst/>
            <a:ahLst/>
            <a:rect l="l" t="t" r="r" b="b"/>
            <a:pathLst>
              <a:path w="1376" h="512">
                <a:moveTo>
                  <a:pt x="0" y="512"/>
                </a:moveTo>
                <a:cubicBezTo>
                  <a:pt x="24" y="392"/>
                  <a:pt x="48" y="272"/>
                  <a:pt x="192" y="224"/>
                </a:cubicBezTo>
                <a:cubicBezTo>
                  <a:pt x="336" y="176"/>
                  <a:pt x="680" y="256"/>
                  <a:pt x="864" y="224"/>
                </a:cubicBezTo>
                <a:cubicBezTo>
                  <a:pt x="1048" y="192"/>
                  <a:pt x="1216" y="64"/>
                  <a:pt x="1296" y="32"/>
                </a:cubicBezTo>
                <a:cubicBezTo>
                  <a:pt x="1376" y="0"/>
                  <a:pt x="1360" y="16"/>
                  <a:pt x="1344" y="3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886200" y="3828960"/>
            <a:ext cx="3315600" cy="998640"/>
            <a:chOff x="3886200" y="3828960"/>
            <a:chExt cx="3315600" cy="998640"/>
          </a:xfrm>
        </p:grpSpPr>
        <p:grpSp>
          <p:nvGrpSpPr>
            <p:cNvPr id="576" name=""/>
            <p:cNvGrpSpPr/>
            <p:nvPr/>
          </p:nvGrpSpPr>
          <p:grpSpPr>
            <a:xfrm>
              <a:off x="6628320" y="4258440"/>
              <a:ext cx="573480" cy="569160"/>
              <a:chOff x="6628320" y="4258440"/>
              <a:chExt cx="573480" cy="569160"/>
            </a:xfrm>
          </p:grpSpPr>
          <p:sp>
            <p:nvSpPr>
              <p:cNvPr id="577" name=""/>
              <p:cNvSpPr/>
              <p:nvPr/>
            </p:nvSpPr>
            <p:spPr>
              <a:xfrm rot="19465200">
                <a:off x="6705360" y="4342680"/>
                <a:ext cx="419040" cy="3999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6909480" y="4424400"/>
                <a:ext cx="154800" cy="11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4311360" y="3828960"/>
              <a:ext cx="558720" cy="565560"/>
              <a:chOff x="4311360" y="3828960"/>
              <a:chExt cx="558720" cy="565560"/>
            </a:xfrm>
          </p:grpSpPr>
          <p:sp>
            <p:nvSpPr>
              <p:cNvPr id="580" name=""/>
              <p:cNvSpPr/>
              <p:nvPr/>
            </p:nvSpPr>
            <p:spPr>
              <a:xfrm rot="18065400">
                <a:off x="4381200" y="3911400"/>
                <a:ext cx="419040" cy="39996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582800" y="3943800"/>
                <a:ext cx="98280" cy="16308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3886200" y="4495680"/>
              <a:ext cx="1600200" cy="151920"/>
            </a:xfrm>
            <a:custGeom>
              <a:avLst/>
              <a:gdLst/>
              <a:ahLst/>
              <a:rect l="l" t="t" r="r" b="b"/>
              <a:pathLst>
                <a:path w="1008" h="96">
                  <a:moveTo>
                    <a:pt x="1008" y="96"/>
                  </a:moveTo>
                  <a:cubicBezTo>
                    <a:pt x="804" y="48"/>
                    <a:pt x="600" y="0"/>
                    <a:pt x="432" y="0"/>
                  </a:cubicBezTo>
                  <a:cubicBezTo>
                    <a:pt x="264" y="0"/>
                    <a:pt x="132" y="48"/>
                    <a:pt x="0" y="96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419360" y="4343040"/>
              <a:ext cx="685800" cy="304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47960" y="4343040"/>
              <a:ext cx="38124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819520" y="3813120"/>
            <a:ext cx="4382280" cy="2166480"/>
            <a:chOff x="2819520" y="3813120"/>
            <a:chExt cx="4382280" cy="2166480"/>
          </a:xfrm>
        </p:grpSpPr>
        <p:grpSp>
          <p:nvGrpSpPr>
            <p:cNvPr id="586" name=""/>
            <p:cNvGrpSpPr/>
            <p:nvPr/>
          </p:nvGrpSpPr>
          <p:grpSpPr>
            <a:xfrm>
              <a:off x="2819520" y="4686840"/>
              <a:ext cx="2199600" cy="1292760"/>
              <a:chOff x="2819520" y="4686840"/>
              <a:chExt cx="2199600" cy="129276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4296600" y="4686840"/>
                <a:ext cx="722520" cy="1107720"/>
                <a:chOff x="4296600" y="4686840"/>
                <a:chExt cx="722520" cy="1107720"/>
              </a:xfrm>
            </p:grpSpPr>
            <p:sp>
              <p:nvSpPr>
                <p:cNvPr id="588" name=""/>
                <p:cNvSpPr/>
                <p:nvPr/>
              </p:nvSpPr>
              <p:spPr>
                <a:xfrm flipV="1">
                  <a:off x="4296600" y="4686840"/>
                  <a:ext cx="288000" cy="867600"/>
                </a:xfrm>
                <a:prstGeom prst="line">
                  <a:avLst/>
                </a:prstGeom>
                <a:ln w="28440">
                  <a:solidFill>
                    <a:srgbClr val="00e4a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296600" y="5554440"/>
                  <a:ext cx="722520" cy="240120"/>
                </a:xfrm>
                <a:prstGeom prst="line">
                  <a:avLst/>
                </a:prstGeom>
                <a:ln w="28440">
                  <a:solidFill>
                    <a:srgbClr val="00e4a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19520" y="5499360"/>
                <a:ext cx="1371240" cy="444240"/>
              </a:xfrm>
              <a:custGeom>
                <a:avLst/>
                <a:gdLst/>
                <a:ahLst/>
                <a:rect l="l" t="t" r="r" b="b"/>
                <a:pathLst>
                  <a:path w="864" h="280">
                    <a:moveTo>
                      <a:pt x="0" y="280"/>
                    </a:moveTo>
                    <a:cubicBezTo>
                      <a:pt x="144" y="180"/>
                      <a:pt x="288" y="80"/>
                      <a:pt x="432" y="40"/>
                    </a:cubicBezTo>
                    <a:cubicBezTo>
                      <a:pt x="576" y="0"/>
                      <a:pt x="720" y="20"/>
                      <a:pt x="864" y="4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94880" y="5519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628320" y="4242960"/>
              <a:ext cx="573480" cy="569160"/>
              <a:chOff x="6628320" y="4242960"/>
              <a:chExt cx="573480" cy="569160"/>
            </a:xfrm>
          </p:grpSpPr>
          <p:sp>
            <p:nvSpPr>
              <p:cNvPr id="593" name=""/>
              <p:cNvSpPr/>
              <p:nvPr/>
            </p:nvSpPr>
            <p:spPr>
              <a:xfrm rot="19465200">
                <a:off x="6705360" y="4327200"/>
                <a:ext cx="419040" cy="39996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09480" y="4408920"/>
                <a:ext cx="154800" cy="11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311360" y="3813120"/>
              <a:ext cx="558720" cy="565200"/>
              <a:chOff x="4311360" y="3813120"/>
              <a:chExt cx="558720" cy="565200"/>
            </a:xfrm>
          </p:grpSpPr>
          <p:sp>
            <p:nvSpPr>
              <p:cNvPr id="596" name=""/>
              <p:cNvSpPr/>
              <p:nvPr/>
            </p:nvSpPr>
            <p:spPr>
              <a:xfrm rot="18065400">
                <a:off x="4380840" y="3895920"/>
                <a:ext cx="419040" cy="399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4582440" y="3927600"/>
                <a:ext cx="98280" cy="16308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"/>
          <p:cNvGrpSpPr/>
          <p:nvPr/>
        </p:nvGrpSpPr>
        <p:grpSpPr>
          <a:xfrm>
            <a:off x="3886200" y="3787560"/>
            <a:ext cx="2816640" cy="860760"/>
            <a:chOff x="3886200" y="3787560"/>
            <a:chExt cx="2816640" cy="860760"/>
          </a:xfrm>
        </p:grpSpPr>
        <p:grpSp>
          <p:nvGrpSpPr>
            <p:cNvPr id="599" name=""/>
            <p:cNvGrpSpPr/>
            <p:nvPr/>
          </p:nvGrpSpPr>
          <p:grpSpPr>
            <a:xfrm>
              <a:off x="3886200" y="3787560"/>
              <a:ext cx="2816640" cy="860760"/>
              <a:chOff x="3886200" y="3787560"/>
              <a:chExt cx="2816640" cy="860760"/>
            </a:xfrm>
          </p:grpSpPr>
          <p:sp>
            <p:nvSpPr>
              <p:cNvPr id="600" name=""/>
              <p:cNvSpPr/>
              <p:nvPr/>
            </p:nvSpPr>
            <p:spPr>
              <a:xfrm>
                <a:off x="3886200" y="4496040"/>
                <a:ext cx="1600200" cy="152280"/>
              </a:xfrm>
              <a:custGeom>
                <a:avLst/>
                <a:gdLst/>
                <a:ahLst/>
                <a:rect l="l" t="t" r="r" b="b"/>
                <a:pathLst>
                  <a:path w="1008" h="96">
                    <a:moveTo>
                      <a:pt x="1008" y="96"/>
                    </a:moveTo>
                    <a:cubicBezTo>
                      <a:pt x="804" y="48"/>
                      <a:pt x="600" y="0"/>
                      <a:pt x="432" y="0"/>
                    </a:cubicBezTo>
                    <a:cubicBezTo>
                      <a:pt x="264" y="0"/>
                      <a:pt x="132" y="48"/>
                      <a:pt x="0" y="96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667200">
                <a:off x="4876200" y="3962160"/>
                <a:ext cx="1828800" cy="152280"/>
              </a:xfrm>
              <a:custGeom>
                <a:avLst/>
                <a:gdLst/>
                <a:ahLst/>
                <a:rect l="l" t="t" r="r" b="b"/>
                <a:pathLst>
                  <a:path w="1008" h="96">
                    <a:moveTo>
                      <a:pt x="1008" y="96"/>
                    </a:moveTo>
                    <a:cubicBezTo>
                      <a:pt x="804" y="48"/>
                      <a:pt x="600" y="0"/>
                      <a:pt x="432" y="0"/>
                    </a:cubicBezTo>
                    <a:cubicBezTo>
                      <a:pt x="264" y="0"/>
                      <a:pt x="132" y="48"/>
                      <a:pt x="0" y="96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196240" y="406728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en-US" sz="2800" spc="-1" strike="noStrike" baseline="30000">
                  <a:solidFill>
                    <a:srgbClr val="333399"/>
                  </a:solidFill>
                  <a:latin typeface="Tahoma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la ca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04" name="segloc-map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229440" cy="4950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carte d’a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segloc-aspect" descr=""/>
          <p:cNvPicPr/>
          <p:nvPr/>
        </p:nvPicPr>
        <p:blipFill>
          <a:blip r:embed="rId1"/>
          <a:stretch/>
        </p:blipFill>
        <p:spPr>
          <a:xfrm>
            <a:off x="1908000" y="1752480"/>
            <a:ext cx="61534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segments acqu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10" name="segloc-acq" descr=""/>
          <p:cNvPicPr/>
          <p:nvPr/>
        </p:nvPicPr>
        <p:blipFill>
          <a:blip r:embed="rId1"/>
          <a:stretch/>
        </p:blipFill>
        <p:spPr>
          <a:xfrm>
            <a:off x="1996920" y="1760400"/>
            <a:ext cx="607716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stor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991 : Thèse de Philippe Moutarlier (encadrée par Raja)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Y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omadic : Intégration dans l’interface de contrôle de robot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SEG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ré-écriture + localisation en mouvement (transformée odométrique + dé-corré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s 1999 : intégration sur les robots Dili, H2 et H2bis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modul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SEGLOC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jout du mode “tracking” (ie, prise en compte de l’odométrie probabilis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appari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3" name="segloc-acq-matched" descr=""/>
          <p:cNvPicPr/>
          <p:nvPr/>
        </p:nvPicPr>
        <p:blipFill>
          <a:blip r:embed="rId1"/>
          <a:stretch/>
        </p:blipFill>
        <p:spPr>
          <a:xfrm>
            <a:off x="2057400" y="1709640"/>
            <a:ext cx="623736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segloc-map-matched" descr=""/>
          <p:cNvPicPr/>
          <p:nvPr/>
        </p:nvPicPr>
        <p:blipFill>
          <a:blip r:embed="rId1"/>
          <a:stretch/>
        </p:blipFill>
        <p:spPr>
          <a:xfrm>
            <a:off x="865080" y="414360"/>
            <a:ext cx="7896240" cy="62737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localis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erforma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racking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5ms à 100ms sur rantan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ur 1647 localisation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192 localisations complè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47 localisations parti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08 échecs (attention : robot pas perd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segloc-big-loop" descr=""/>
          <p:cNvPicPr/>
          <p:nvPr/>
        </p:nvPicPr>
        <p:blipFill>
          <a:blip r:embed="rId1"/>
          <a:stretch/>
        </p:blipFill>
        <p:spPr>
          <a:xfrm>
            <a:off x="3581280" y="0"/>
            <a:ext cx="5362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s : 1/ construction car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Non-corrélation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rrection locale, pas de propag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fficulté de re-bouclage dans la ca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-&gt; Nebot ?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partitionnement environnement +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pagation « batch 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3480120" y="3834000"/>
            <a:ext cx="2249280" cy="1231560"/>
            <a:chOff x="3480120" y="3834000"/>
            <a:chExt cx="2249280" cy="1231560"/>
          </a:xfrm>
        </p:grpSpPr>
        <p:grpSp>
          <p:nvGrpSpPr>
            <p:cNvPr id="623" name=""/>
            <p:cNvGrpSpPr/>
            <p:nvPr/>
          </p:nvGrpSpPr>
          <p:grpSpPr>
            <a:xfrm>
              <a:off x="3480120" y="3834000"/>
              <a:ext cx="1455480" cy="1231560"/>
              <a:chOff x="3480120" y="3834000"/>
              <a:chExt cx="1455480" cy="123156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4002480" y="5046480"/>
                <a:ext cx="914040" cy="16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4285440" y="3834000"/>
                <a:ext cx="407160" cy="426240"/>
                <a:chOff x="4285440" y="3834000"/>
                <a:chExt cx="407160" cy="426240"/>
              </a:xfrm>
            </p:grpSpPr>
            <p:sp>
              <p:nvSpPr>
                <p:cNvPr id="626" name=""/>
                <p:cNvSpPr/>
                <p:nvPr/>
              </p:nvSpPr>
              <p:spPr>
                <a:xfrm rot="5463000">
                  <a:off x="4279320" y="384696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>
                  <a:off x="4495320" y="4047120"/>
                  <a:ext cx="3240" cy="190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28" name=""/>
              <p:cNvCxnSpPr>
                <a:stCxn id="627" idx="0"/>
                <a:endCxn id="624" idx="0"/>
              </p:cNvCxnSpPr>
              <p:nvPr/>
            </p:nvCxnSpPr>
            <p:spPr>
              <a:xfrm>
                <a:off x="4501440" y="4049280"/>
                <a:ext cx="434520" cy="10166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29" name=""/>
              <p:cNvCxnSpPr>
                <a:stCxn id="627" idx="0"/>
                <a:endCxn id="624" idx="1"/>
              </p:cNvCxnSpPr>
              <p:nvPr/>
            </p:nvCxnSpPr>
            <p:spPr>
              <a:xfrm flipH="1">
                <a:off x="3984480" y="4049280"/>
                <a:ext cx="517320" cy="9993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630" name=""/>
              <p:cNvSpPr/>
              <p:nvPr/>
            </p:nvSpPr>
            <p:spPr>
              <a:xfrm flipV="1">
                <a:off x="3480120" y="4122360"/>
                <a:ext cx="540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1" name=""/>
              <p:cNvCxnSpPr>
                <a:stCxn id="627" idx="0"/>
                <a:endCxn id="630" idx="0"/>
              </p:cNvCxnSpPr>
              <p:nvPr/>
            </p:nvCxnSpPr>
            <p:spPr>
              <a:xfrm flipH="1">
                <a:off x="3480120" y="4049640"/>
                <a:ext cx="1022040" cy="3978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32" name=""/>
              <p:cNvCxnSpPr>
                <a:stCxn id="627" idx="0"/>
                <a:endCxn id="630" idx="1"/>
              </p:cNvCxnSpPr>
              <p:nvPr/>
            </p:nvCxnSpPr>
            <p:spPr>
              <a:xfrm flipH="1">
                <a:off x="3486240" y="4049280"/>
                <a:ext cx="1015920" cy="5472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33" name=""/>
            <p:cNvSpPr/>
            <p:nvPr/>
          </p:nvSpPr>
          <p:spPr>
            <a:xfrm flipH="1">
              <a:off x="5701320" y="4393800"/>
              <a:ext cx="8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7" idx="0"/>
              <a:endCxn id="633" idx="0"/>
            </p:cNvCxnSpPr>
            <p:nvPr/>
          </p:nvCxnSpPr>
          <p:spPr>
            <a:xfrm>
              <a:off x="4500000" y="4046400"/>
              <a:ext cx="1182960" cy="8049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635" name=""/>
            <p:cNvCxnSpPr>
              <a:stCxn id="627" idx="0"/>
              <a:endCxn id="633" idx="0"/>
            </p:cNvCxnSpPr>
            <p:nvPr/>
          </p:nvCxnSpPr>
          <p:spPr>
            <a:xfrm>
              <a:off x="4500000" y="4046400"/>
              <a:ext cx="1229760" cy="3484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s :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 2/ sélection hypothè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87400" y="2163600"/>
            <a:ext cx="7888320" cy="16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s de confiance dans l’hypothèse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624480" y="3162600"/>
            <a:ext cx="1675800" cy="3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81520" y="3637080"/>
            <a:ext cx="18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82400" y="5052960"/>
            <a:ext cx="1140840" cy="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474800" y="3163320"/>
            <a:ext cx="1219680" cy="2248560"/>
            <a:chOff x="4474800" y="3163320"/>
            <a:chExt cx="1219680" cy="2248560"/>
          </a:xfrm>
        </p:grpSpPr>
        <p:grpSp>
          <p:nvGrpSpPr>
            <p:cNvPr id="642" name=""/>
            <p:cNvGrpSpPr/>
            <p:nvPr/>
          </p:nvGrpSpPr>
          <p:grpSpPr>
            <a:xfrm>
              <a:off x="4474800" y="3944880"/>
              <a:ext cx="1219680" cy="1467000"/>
              <a:chOff x="4474800" y="3944880"/>
              <a:chExt cx="1219680" cy="1467000"/>
            </a:xfrm>
          </p:grpSpPr>
          <p:sp>
            <p:nvSpPr>
              <p:cNvPr id="643" name=""/>
              <p:cNvSpPr/>
              <p:nvPr/>
            </p:nvSpPr>
            <p:spPr>
              <a:xfrm>
                <a:off x="5692320" y="3963960"/>
                <a:ext cx="0" cy="9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4474800" y="4210200"/>
                <a:ext cx="419040" cy="399600"/>
                <a:chOff x="4474800" y="4210200"/>
                <a:chExt cx="419040" cy="3996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4474800" y="421020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684320" y="4400280"/>
                  <a:ext cx="1904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47" name=""/>
              <p:cNvCxnSpPr>
                <a:stCxn id="646" idx="0"/>
                <a:endCxn id="643" idx="0"/>
              </p:cNvCxnSpPr>
              <p:nvPr/>
            </p:nvCxnSpPr>
            <p:spPr>
              <a:xfrm flipV="1">
                <a:off x="4686120" y="3944880"/>
                <a:ext cx="1008720" cy="452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48" name=""/>
              <p:cNvCxnSpPr>
                <a:stCxn id="646" idx="0"/>
                <a:endCxn id="643" idx="1"/>
              </p:cNvCxnSpPr>
              <p:nvPr/>
            </p:nvCxnSpPr>
            <p:spPr>
              <a:xfrm>
                <a:off x="4686120" y="4397400"/>
                <a:ext cx="1008720" cy="4989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649" name=""/>
              <p:cNvSpPr/>
              <p:nvPr/>
            </p:nvSpPr>
            <p:spPr>
              <a:xfrm flipH="1">
                <a:off x="4777920" y="54118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0" name=""/>
              <p:cNvCxnSpPr>
                <a:stCxn id="646" idx="0"/>
                <a:endCxn id="649" idx="0"/>
              </p:cNvCxnSpPr>
              <p:nvPr/>
            </p:nvCxnSpPr>
            <p:spPr>
              <a:xfrm>
                <a:off x="4686480" y="4397040"/>
                <a:ext cx="416520" cy="1014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51" name=""/>
              <p:cNvCxnSpPr>
                <a:stCxn id="646" idx="0"/>
                <a:endCxn id="649" idx="1"/>
              </p:cNvCxnSpPr>
              <p:nvPr/>
            </p:nvCxnSpPr>
            <p:spPr>
              <a:xfrm>
                <a:off x="4686120" y="4397040"/>
                <a:ext cx="73440" cy="1014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52" name=""/>
            <p:cNvSpPr/>
            <p:nvPr/>
          </p:nvSpPr>
          <p:spPr>
            <a:xfrm>
              <a:off x="5008680" y="31831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"/>
            <p:cNvCxnSpPr>
              <a:stCxn id="646" idx="0"/>
              <a:endCxn id="652" idx="0"/>
            </p:cNvCxnSpPr>
            <p:nvPr/>
          </p:nvCxnSpPr>
          <p:spPr>
            <a:xfrm flipV="1">
              <a:off x="4683240" y="3201840"/>
              <a:ext cx="783360" cy="11973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654" name=""/>
            <p:cNvCxnSpPr>
              <a:stCxn id="646" idx="0"/>
              <a:endCxn id="652" idx="0"/>
            </p:cNvCxnSpPr>
            <p:nvPr/>
          </p:nvCxnSpPr>
          <p:spPr>
            <a:xfrm flipV="1">
              <a:off x="4683240" y="3163320"/>
              <a:ext cx="326160" cy="12358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655" name=""/>
          <p:cNvGrpSpPr/>
          <p:nvPr/>
        </p:nvGrpSpPr>
        <p:grpSpPr>
          <a:xfrm>
            <a:off x="4454640" y="3161520"/>
            <a:ext cx="1238400" cy="2248560"/>
            <a:chOff x="4454640" y="3161520"/>
            <a:chExt cx="1238400" cy="2248560"/>
          </a:xfrm>
        </p:grpSpPr>
        <p:grpSp>
          <p:nvGrpSpPr>
            <p:cNvPr id="656" name=""/>
            <p:cNvGrpSpPr/>
            <p:nvPr/>
          </p:nvGrpSpPr>
          <p:grpSpPr>
            <a:xfrm>
              <a:off x="4474080" y="3161520"/>
              <a:ext cx="1218960" cy="2248560"/>
              <a:chOff x="4474080" y="3161520"/>
              <a:chExt cx="1218960" cy="224856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4474080" y="3943080"/>
                <a:ext cx="1218960" cy="1467000"/>
                <a:chOff x="4474080" y="3943080"/>
                <a:chExt cx="1218960" cy="14670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690880" y="3962160"/>
                  <a:ext cx="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" name=""/>
                <p:cNvGrpSpPr/>
                <p:nvPr/>
              </p:nvGrpSpPr>
              <p:grpSpPr>
                <a:xfrm>
                  <a:off x="4474080" y="4208400"/>
                  <a:ext cx="418680" cy="399600"/>
                  <a:chOff x="4474080" y="4208400"/>
                  <a:chExt cx="418680" cy="39960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>
                    <a:off x="4474080" y="420840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683240" y="4398480"/>
                    <a:ext cx="19008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62" name=""/>
                <p:cNvCxnSpPr>
                  <a:stCxn id="661" idx="0"/>
                  <a:endCxn id="658" idx="0"/>
                </p:cNvCxnSpPr>
                <p:nvPr/>
              </p:nvCxnSpPr>
              <p:spPr>
                <a:xfrm flipV="1">
                  <a:off x="4685040" y="3943080"/>
                  <a:ext cx="1008360" cy="4528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63" name=""/>
                <p:cNvCxnSpPr>
                  <a:stCxn id="661" idx="0"/>
                  <a:endCxn id="658" idx="1"/>
                </p:cNvCxnSpPr>
                <p:nvPr/>
              </p:nvCxnSpPr>
              <p:spPr>
                <a:xfrm>
                  <a:off x="4685040" y="4395600"/>
                  <a:ext cx="1008360" cy="4989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664" name=""/>
                <p:cNvSpPr/>
                <p:nvPr/>
              </p:nvSpPr>
              <p:spPr>
                <a:xfrm flipH="1">
                  <a:off x="4776840" y="5410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5" name=""/>
                <p:cNvCxnSpPr>
                  <a:stCxn id="661" idx="0"/>
                  <a:endCxn id="664" idx="0"/>
                </p:cNvCxnSpPr>
                <p:nvPr/>
              </p:nvCxnSpPr>
              <p:spPr>
                <a:xfrm>
                  <a:off x="4685040" y="4395240"/>
                  <a:ext cx="416160" cy="10148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66" name=""/>
                <p:cNvCxnSpPr>
                  <a:stCxn id="661" idx="0"/>
                  <a:endCxn id="664" idx="1"/>
                </p:cNvCxnSpPr>
                <p:nvPr/>
              </p:nvCxnSpPr>
              <p:spPr>
                <a:xfrm>
                  <a:off x="4685400" y="4395240"/>
                  <a:ext cx="73080" cy="10148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667" name=""/>
              <p:cNvSpPr/>
              <p:nvPr/>
            </p:nvSpPr>
            <p:spPr>
              <a:xfrm>
                <a:off x="5006520" y="318132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68" name=""/>
              <p:cNvCxnSpPr>
                <a:stCxn id="661" idx="0"/>
                <a:endCxn id="667" idx="0"/>
              </p:cNvCxnSpPr>
              <p:nvPr/>
            </p:nvCxnSpPr>
            <p:spPr>
              <a:xfrm flipV="1">
                <a:off x="4680720" y="3200040"/>
                <a:ext cx="783000" cy="11973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69" name=""/>
              <p:cNvCxnSpPr>
                <a:stCxn id="661" idx="0"/>
                <a:endCxn id="667" idx="0"/>
              </p:cNvCxnSpPr>
              <p:nvPr/>
            </p:nvCxnSpPr>
            <p:spPr>
              <a:xfrm flipV="1">
                <a:off x="4680720" y="3161520"/>
                <a:ext cx="325440" cy="1235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70" name=""/>
            <p:cNvSpPr/>
            <p:nvPr/>
          </p:nvSpPr>
          <p:spPr>
            <a:xfrm>
              <a:off x="4454640" y="4302000"/>
              <a:ext cx="461880" cy="191520"/>
            </a:xfrm>
            <a:prstGeom prst="ellipse">
              <a:avLst/>
            </a:prstGeom>
            <a:noFill/>
            <a:ln w="38160">
              <a:solidFill>
                <a:srgbClr val="ca34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81920" y="3836880"/>
            <a:ext cx="2249280" cy="1230840"/>
            <a:chOff x="3481920" y="3836880"/>
            <a:chExt cx="2249280" cy="1230840"/>
          </a:xfrm>
        </p:grpSpPr>
        <p:grpSp>
          <p:nvGrpSpPr>
            <p:cNvPr id="672" name=""/>
            <p:cNvGrpSpPr/>
            <p:nvPr/>
          </p:nvGrpSpPr>
          <p:grpSpPr>
            <a:xfrm>
              <a:off x="3481920" y="3836880"/>
              <a:ext cx="2249280" cy="1230840"/>
              <a:chOff x="3481920" y="3836880"/>
              <a:chExt cx="2249280" cy="123084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481920" y="3836880"/>
                <a:ext cx="1455480" cy="1230840"/>
                <a:chOff x="3481920" y="3836880"/>
                <a:chExt cx="1455480" cy="1230840"/>
              </a:xfrm>
            </p:grpSpPr>
            <p:sp>
              <p:nvSpPr>
                <p:cNvPr id="674" name=""/>
                <p:cNvSpPr/>
                <p:nvPr/>
              </p:nvSpPr>
              <p:spPr>
                <a:xfrm flipH="1" flipV="1">
                  <a:off x="4004280" y="5048640"/>
                  <a:ext cx="9140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5" name=""/>
                <p:cNvGrpSpPr/>
                <p:nvPr/>
              </p:nvGrpSpPr>
              <p:grpSpPr>
                <a:xfrm>
                  <a:off x="4287240" y="3836880"/>
                  <a:ext cx="407160" cy="425880"/>
                  <a:chOff x="4287240" y="3836880"/>
                  <a:chExt cx="407160" cy="42588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rot="5463000">
                    <a:off x="4281120" y="384984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4497120" y="4049640"/>
                    <a:ext cx="3240" cy="190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78" name=""/>
                <p:cNvCxnSpPr>
                  <a:stCxn id="677" idx="0"/>
                  <a:endCxn id="674" idx="0"/>
                </p:cNvCxnSpPr>
                <p:nvPr/>
              </p:nvCxnSpPr>
              <p:spPr>
                <a:xfrm>
                  <a:off x="4503240" y="4051800"/>
                  <a:ext cx="434520" cy="1016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79" name=""/>
                <p:cNvCxnSpPr>
                  <a:stCxn id="677" idx="0"/>
                  <a:endCxn id="674" idx="1"/>
                </p:cNvCxnSpPr>
                <p:nvPr/>
              </p:nvCxnSpPr>
              <p:spPr>
                <a:xfrm flipH="1">
                  <a:off x="3986280" y="4051800"/>
                  <a:ext cx="517320" cy="99900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680" name=""/>
                <p:cNvSpPr/>
                <p:nvPr/>
              </p:nvSpPr>
              <p:spPr>
                <a:xfrm flipV="1">
                  <a:off x="3481920" y="4124880"/>
                  <a:ext cx="540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1" name=""/>
                <p:cNvCxnSpPr>
                  <a:stCxn id="677" idx="0"/>
                  <a:endCxn id="680" idx="0"/>
                </p:cNvCxnSpPr>
                <p:nvPr/>
              </p:nvCxnSpPr>
              <p:spPr>
                <a:xfrm flipH="1">
                  <a:off x="3481920" y="4051800"/>
                  <a:ext cx="1022040" cy="3974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82" name=""/>
                <p:cNvCxnSpPr>
                  <a:stCxn id="677" idx="0"/>
                  <a:endCxn id="680" idx="1"/>
                </p:cNvCxnSpPr>
                <p:nvPr/>
              </p:nvCxnSpPr>
              <p:spPr>
                <a:xfrm flipH="1">
                  <a:off x="3488040" y="4052160"/>
                  <a:ext cx="1015920" cy="54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683" name=""/>
              <p:cNvSpPr/>
              <p:nvPr/>
            </p:nvSpPr>
            <p:spPr>
              <a:xfrm flipH="1">
                <a:off x="5703120" y="4395240"/>
                <a:ext cx="8280" cy="45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84" name=""/>
              <p:cNvCxnSpPr>
                <a:stCxn id="677" idx="0"/>
                <a:endCxn id="683" idx="0"/>
              </p:cNvCxnSpPr>
              <p:nvPr/>
            </p:nvCxnSpPr>
            <p:spPr>
              <a:xfrm>
                <a:off x="4502160" y="4047480"/>
                <a:ext cx="1182600" cy="804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85" name=""/>
              <p:cNvCxnSpPr>
                <a:stCxn id="677" idx="0"/>
                <a:endCxn id="683" idx="0"/>
              </p:cNvCxnSpPr>
              <p:nvPr/>
            </p:nvCxnSpPr>
            <p:spPr>
              <a:xfrm>
                <a:off x="4502160" y="4047480"/>
                <a:ext cx="1229400" cy="3477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86" name=""/>
            <p:cNvSpPr/>
            <p:nvPr/>
          </p:nvSpPr>
          <p:spPr>
            <a:xfrm>
              <a:off x="4324680" y="3926160"/>
              <a:ext cx="333360" cy="244440"/>
            </a:xfrm>
            <a:prstGeom prst="ellipse">
              <a:avLst/>
            </a:prstGeom>
            <a:noFill/>
            <a:ln w="38160">
              <a:solidFill>
                <a:srgbClr val="ca34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795240" y="5700600"/>
            <a:ext cx="78883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use d’erreurs en absence de prédiction (ie, hors trac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885600" y="2017800"/>
            <a:ext cx="665316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nombreux critères de qualité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. Eg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ombre de segments apparié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roportion de segments non-apparié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ngle apparié cumul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vitesses du robot lors de l’acqui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classification bonne/mauvaise + score de qualité (ie, de confianc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ayésie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s proche voi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+ maintenir hypothèses parallè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 : sélection hypothè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7126560" y="49672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 = A1 +A2 +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407280" y="2749680"/>
            <a:ext cx="2495520" cy="2157120"/>
            <a:chOff x="6407280" y="2749680"/>
            <a:chExt cx="2495520" cy="2157120"/>
          </a:xfrm>
        </p:grpSpPr>
        <p:sp>
          <p:nvSpPr>
            <p:cNvPr id="692" name=""/>
            <p:cNvSpPr/>
            <p:nvPr/>
          </p:nvSpPr>
          <p:spPr>
            <a:xfrm>
              <a:off x="6407280" y="288432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767800" y="3760920"/>
              <a:ext cx="0" cy="61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734320" y="3689280"/>
              <a:ext cx="0" cy="16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21440" y="2951280"/>
              <a:ext cx="615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7350120" y="3832200"/>
              <a:ext cx="214200" cy="225360"/>
              <a:chOff x="7350120" y="3832200"/>
              <a:chExt cx="214200" cy="225360"/>
            </a:xfrm>
          </p:grpSpPr>
          <p:sp>
            <p:nvSpPr>
              <p:cNvPr id="697" name=""/>
              <p:cNvSpPr/>
              <p:nvPr/>
            </p:nvSpPr>
            <p:spPr>
              <a:xfrm rot="16200000">
                <a:off x="7344360" y="3837600"/>
                <a:ext cx="225360" cy="214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452000" y="3842640"/>
                <a:ext cx="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 flipV="1">
              <a:off x="7588440" y="4495320"/>
              <a:ext cx="741240" cy="40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723080" y="4564080"/>
              <a:ext cx="405000" cy="20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013520" y="274968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51920" y="274968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13520" y="2816280"/>
              <a:ext cx="338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767800" y="3760920"/>
              <a:ext cx="135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767800" y="3827520"/>
              <a:ext cx="135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836200" y="3760920"/>
              <a:ext cx="0" cy="66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56560" y="4772160"/>
              <a:ext cx="66600" cy="134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161560" y="4568760"/>
              <a:ext cx="66600" cy="135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7823160" y="4703760"/>
              <a:ext cx="405000" cy="203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34680" y="30798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230320" y="368928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4520" y="42228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3" name=""/>
            <p:cNvCxnSpPr>
              <a:stCxn id="698" idx="0"/>
              <a:endCxn id="708" idx="0"/>
            </p:cNvCxnSpPr>
            <p:nvPr/>
          </p:nvCxnSpPr>
          <p:spPr>
            <a:xfrm>
              <a:off x="7450200" y="3943080"/>
              <a:ext cx="712080" cy="6260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4" name=""/>
            <p:cNvCxnSpPr>
              <a:stCxn id="698" idx="0"/>
              <a:endCxn id="701" idx="0"/>
            </p:cNvCxnSpPr>
            <p:nvPr/>
          </p:nvCxnSpPr>
          <p:spPr>
            <a:xfrm flipH="1" flipV="1">
              <a:off x="7012800" y="2950920"/>
              <a:ext cx="437400" cy="9928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5" name=""/>
            <p:cNvCxnSpPr>
              <a:stCxn id="698" idx="0"/>
              <a:endCxn id="707" idx="0"/>
            </p:cNvCxnSpPr>
            <p:nvPr/>
          </p:nvCxnSpPr>
          <p:spPr>
            <a:xfrm>
              <a:off x="7449840" y="3943440"/>
              <a:ext cx="306720" cy="8294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6" name=""/>
            <p:cNvCxnSpPr>
              <a:stCxn id="698" idx="0"/>
              <a:endCxn id="702" idx="0"/>
            </p:cNvCxnSpPr>
            <p:nvPr/>
          </p:nvCxnSpPr>
          <p:spPr>
            <a:xfrm flipH="1" flipV="1">
              <a:off x="7351200" y="2950920"/>
              <a:ext cx="99000" cy="9928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7" name=""/>
            <p:cNvCxnSpPr>
              <a:stCxn id="698" idx="0"/>
              <a:endCxn id="705" idx="0"/>
            </p:cNvCxnSpPr>
            <p:nvPr/>
          </p:nvCxnSpPr>
          <p:spPr>
            <a:xfrm flipV="1">
              <a:off x="7450200" y="3827160"/>
              <a:ext cx="1318320" cy="1166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8" name=""/>
            <p:cNvCxnSpPr>
              <a:stCxn id="697" idx="4"/>
              <a:endCxn id="704" idx="0"/>
            </p:cNvCxnSpPr>
            <p:nvPr/>
          </p:nvCxnSpPr>
          <p:spPr>
            <a:xfrm flipV="1">
              <a:off x="7562520" y="3760200"/>
              <a:ext cx="1205640" cy="1846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Tahoma"/>
              </a:rPr>
              <a:t>Limitations : 3/ incertitudes peu réalis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Gestion des incertitude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rreurs exclusivement sur la position des points-la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btention de précisions irréalistes lors de tirs sur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du à la non-corrél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Pas d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calisation à l’arrê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036960" y="3952800"/>
            <a:ext cx="4800600" cy="912960"/>
          </a:xfrm>
          <a:custGeom>
            <a:avLst/>
            <a:gdLst/>
            <a:ahLst/>
            <a:rect l="l" t="t" r="r" b="b"/>
            <a:pathLst>
              <a:path w="3024" h="575">
                <a:moveTo>
                  <a:pt x="0" y="478"/>
                </a:moveTo>
                <a:lnTo>
                  <a:pt x="867" y="0"/>
                </a:lnTo>
                <a:lnTo>
                  <a:pt x="3024" y="486"/>
                </a:lnTo>
                <a:lnTo>
                  <a:pt x="2400" y="575"/>
                </a:lnTo>
                <a:lnTo>
                  <a:pt x="0" y="47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Limitations : 4/ critère d’apparie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ppariement par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droite porte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angle OK mais distance pas significative 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8560" y="2962440"/>
            <a:ext cx="5546880" cy="3117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3025800" y="3946680"/>
            <a:ext cx="1371600" cy="7617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891000" y="4706280"/>
            <a:ext cx="7033320" cy="1224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832800" y="4713120"/>
            <a:ext cx="987120" cy="171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260360" y="2987640"/>
            <a:ext cx="0" cy="307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258920" y="6076800"/>
            <a:ext cx="674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792520" y="4838760"/>
            <a:ext cx="1054440" cy="1235880"/>
            <a:chOff x="2792520" y="4838760"/>
            <a:chExt cx="1054440" cy="1235880"/>
          </a:xfrm>
        </p:grpSpPr>
        <p:sp>
          <p:nvSpPr>
            <p:cNvPr id="731" name=""/>
            <p:cNvSpPr/>
            <p:nvPr/>
          </p:nvSpPr>
          <p:spPr>
            <a:xfrm>
              <a:off x="2981160" y="4838760"/>
              <a:ext cx="493560" cy="1197000"/>
            </a:xfrm>
            <a:custGeom>
              <a:avLst/>
              <a:gdLst/>
              <a:ahLst/>
              <a:rect l="l" t="t" r="r" b="b"/>
              <a:pathLst>
                <a:path w="359" h="673">
                  <a:moveTo>
                    <a:pt x="357" y="673"/>
                  </a:moveTo>
                  <a:cubicBezTo>
                    <a:pt x="358" y="538"/>
                    <a:pt x="359" y="404"/>
                    <a:pt x="300" y="292"/>
                  </a:cubicBezTo>
                  <a:cubicBezTo>
                    <a:pt x="241" y="180"/>
                    <a:pt x="120" y="9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92520" y="5651640"/>
              <a:ext cx="74520" cy="360360"/>
            </a:xfrm>
            <a:custGeom>
              <a:avLst/>
              <a:gdLst/>
              <a:ahLst/>
              <a:rect l="l" t="t" r="r" b="b"/>
              <a:pathLst>
                <a:path w="47" h="227">
                  <a:moveTo>
                    <a:pt x="40" y="227"/>
                  </a:moveTo>
                  <a:cubicBezTo>
                    <a:pt x="43" y="189"/>
                    <a:pt x="47" y="152"/>
                    <a:pt x="40" y="114"/>
                  </a:cubicBezTo>
                  <a:cubicBezTo>
                    <a:pt x="33" y="76"/>
                    <a:pt x="16" y="38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34280" y="56149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21720" y="49561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3306240" y="38354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165440" y="48625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85720" y="5727600"/>
            <a:ext cx="1200600" cy="510480"/>
            <a:chOff x="585720" y="5727600"/>
            <a:chExt cx="1200600" cy="510480"/>
          </a:xfrm>
        </p:grpSpPr>
        <p:grpSp>
          <p:nvGrpSpPr>
            <p:cNvPr id="738" name=""/>
            <p:cNvGrpSpPr/>
            <p:nvPr/>
          </p:nvGrpSpPr>
          <p:grpSpPr>
            <a:xfrm>
              <a:off x="585720" y="5727600"/>
              <a:ext cx="1200600" cy="510480"/>
              <a:chOff x="585720" y="5727600"/>
              <a:chExt cx="1200600" cy="510480"/>
            </a:xfrm>
          </p:grpSpPr>
          <p:sp>
            <p:nvSpPr>
              <p:cNvPr id="739" name=""/>
              <p:cNvSpPr/>
              <p:nvPr/>
            </p:nvSpPr>
            <p:spPr>
              <a:xfrm>
                <a:off x="1119240" y="5792760"/>
                <a:ext cx="153720" cy="29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234800" y="5870520"/>
                <a:ext cx="38160" cy="231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244520" y="5727600"/>
                <a:ext cx="54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5720" y="5778360"/>
                <a:ext cx="54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d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1171440" y="5727600"/>
              <a:ext cx="63720" cy="141480"/>
            </a:xfrm>
            <a:custGeom>
              <a:avLst/>
              <a:gdLst/>
              <a:ahLst/>
              <a:rect l="l" t="t" r="r" b="b"/>
              <a:pathLst>
                <a:path w="40" h="89">
                  <a:moveTo>
                    <a:pt x="0" y="89"/>
                  </a:moveTo>
                  <a:lnTo>
                    <a:pt x="40" y="65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262160" y="5856120"/>
              <a:ext cx="8892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0" y="57"/>
                  </a:moveTo>
                  <a:lnTo>
                    <a:pt x="56" y="49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 flipH="1" flipV="1">
            <a:off x="3796920" y="4248000"/>
            <a:ext cx="3489480" cy="565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arche bien en trac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ut-on résorber les limitation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on-corrélation -&gt; bouclage car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s de confiance dans les hypothè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ela présente-t-il un intérê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aut-il revoir complètement l’approch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’approche en mots cle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79856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imitives :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entification : motifs d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usion par Kalman (sans corré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Hypothèses mult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îtrise de la complexité grâce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lcul de carte d’asp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atégie de groupement angu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îtrise de la dynamique grâce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stimation probabiliste de la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ansformation du repère odométr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rincipe généra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828800"/>
            <a:ext cx="1428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15160" y="2171880"/>
            <a:ext cx="0" cy="1466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67800" y="4229280"/>
            <a:ext cx="0" cy="723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90720" y="1866960"/>
            <a:ext cx="3181680" cy="2975040"/>
            <a:chOff x="4590720" y="1866960"/>
            <a:chExt cx="3181680" cy="2975040"/>
          </a:xfrm>
        </p:grpSpPr>
        <p:grpSp>
          <p:nvGrpSpPr>
            <p:cNvPr id="110" name=""/>
            <p:cNvGrpSpPr/>
            <p:nvPr/>
          </p:nvGrpSpPr>
          <p:grpSpPr>
            <a:xfrm>
              <a:off x="5181840" y="1866960"/>
              <a:ext cx="2590560" cy="2476080"/>
              <a:chOff x="5181840" y="1866960"/>
              <a:chExt cx="2590560" cy="2476080"/>
            </a:xfrm>
          </p:grpSpPr>
          <p:sp>
            <p:nvSpPr>
              <p:cNvPr id="111" name=""/>
              <p:cNvSpPr/>
              <p:nvPr/>
            </p:nvSpPr>
            <p:spPr>
              <a:xfrm>
                <a:off x="6820200" y="2651040"/>
                <a:ext cx="742680" cy="205920"/>
              </a:xfrm>
              <a:custGeom>
                <a:avLst/>
                <a:gdLst/>
                <a:ahLst/>
                <a:rect l="l" t="t" r="r" b="b"/>
                <a:pathLst>
                  <a:path w="468" h="130">
                    <a:moveTo>
                      <a:pt x="0" y="130"/>
                    </a:moveTo>
                    <a:cubicBezTo>
                      <a:pt x="9" y="75"/>
                      <a:pt x="18" y="20"/>
                      <a:pt x="96" y="10"/>
                    </a:cubicBezTo>
                    <a:cubicBezTo>
                      <a:pt x="174" y="0"/>
                      <a:pt x="406" y="60"/>
                      <a:pt x="468" y="7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48760" y="4216320"/>
                <a:ext cx="323640" cy="126720"/>
              </a:xfrm>
              <a:custGeom>
                <a:avLst/>
                <a:gdLst/>
                <a:ahLst/>
                <a:rect l="l" t="t" r="r" b="b"/>
                <a:pathLst>
                  <a:path w="204" h="80">
                    <a:moveTo>
                      <a:pt x="0" y="80"/>
                    </a:moveTo>
                    <a:cubicBezTo>
                      <a:pt x="31" y="48"/>
                      <a:pt x="62" y="16"/>
                      <a:pt x="96" y="8"/>
                    </a:cubicBezTo>
                    <a:cubicBezTo>
                      <a:pt x="130" y="0"/>
                      <a:pt x="167" y="16"/>
                      <a:pt x="204" y="3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81840" y="1866960"/>
                <a:ext cx="533160" cy="3808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240"/>
                    </a:moveTo>
                    <a:cubicBezTo>
                      <a:pt x="26" y="176"/>
                      <a:pt x="52" y="112"/>
                      <a:pt x="108" y="72"/>
                    </a:cubicBezTo>
                    <a:cubicBezTo>
                      <a:pt x="164" y="32"/>
                      <a:pt x="250" y="16"/>
                      <a:pt x="336" y="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590720" y="2078640"/>
              <a:ext cx="3124800" cy="2763360"/>
              <a:chOff x="4590720" y="2078640"/>
              <a:chExt cx="3124800" cy="2763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4590720" y="2078640"/>
                <a:ext cx="3124800" cy="2763360"/>
                <a:chOff x="4590720" y="2078640"/>
                <a:chExt cx="3124800" cy="27633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486920" y="3371400"/>
                  <a:ext cx="228600" cy="570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4590720" y="2078640"/>
                  <a:ext cx="1350000" cy="46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449760" y="2264400"/>
                  <a:ext cx="480240" cy="138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266600" y="4158000"/>
                  <a:ext cx="236880" cy="684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100840" y="3704400"/>
                <a:ext cx="526680" cy="514800"/>
                <a:chOff x="5100840" y="3704400"/>
                <a:chExt cx="526680" cy="514800"/>
              </a:xfrm>
            </p:grpSpPr>
            <p:sp>
              <p:nvSpPr>
                <p:cNvPr id="121" name=""/>
                <p:cNvSpPr/>
                <p:nvPr/>
              </p:nvSpPr>
              <p:spPr>
                <a:xfrm rot="20452800">
                  <a:off x="5154480" y="376164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>
                  <a:off x="5361120" y="3890160"/>
                  <a:ext cx="180000" cy="6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" name=""/>
          <p:cNvGrpSpPr/>
          <p:nvPr/>
        </p:nvGrpSpPr>
        <p:grpSpPr>
          <a:xfrm>
            <a:off x="4076640" y="2114640"/>
            <a:ext cx="3598560" cy="3045960"/>
            <a:chOff x="4076640" y="2114640"/>
            <a:chExt cx="3598560" cy="3045960"/>
          </a:xfrm>
        </p:grpSpPr>
        <p:grpSp>
          <p:nvGrpSpPr>
            <p:cNvPr id="124" name=""/>
            <p:cNvGrpSpPr/>
            <p:nvPr/>
          </p:nvGrpSpPr>
          <p:grpSpPr>
            <a:xfrm>
              <a:off x="4076640" y="2114640"/>
              <a:ext cx="3598560" cy="3045960"/>
              <a:chOff x="4076640" y="2114640"/>
              <a:chExt cx="3598560" cy="3045960"/>
            </a:xfrm>
          </p:grpSpPr>
          <p:sp>
            <p:nvSpPr>
              <p:cNvPr id="125" name=""/>
              <p:cNvSpPr/>
              <p:nvPr/>
            </p:nvSpPr>
            <p:spPr>
              <a:xfrm>
                <a:off x="4628880" y="236196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05200" y="25524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81400" y="24001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5086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29320" y="337176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7640" y="35049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76640" y="27810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086240" y="508608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43440" y="344808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562520" y="35431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95920" y="2133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040" y="211464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14680" y="228600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47920" y="238104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57480" y="238104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95800" y="333360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81680" y="318132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705360" y="3009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67200" y="274320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14920" y="25524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14920" y="238104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00440" y="23619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10240" y="481968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200720" y="41716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4840" y="43243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10240" y="46098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53000" y="44193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00680" y="37335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600680" y="388620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100480" y="3704760"/>
              <a:ext cx="526680" cy="514800"/>
              <a:chOff x="5100480" y="3704760"/>
              <a:chExt cx="526680" cy="514800"/>
            </a:xfrm>
          </p:grpSpPr>
          <p:sp>
            <p:nvSpPr>
              <p:cNvPr id="155" name=""/>
              <p:cNvSpPr/>
              <p:nvPr/>
            </p:nvSpPr>
            <p:spPr>
              <a:xfrm rot="20452800">
                <a:off x="5154120" y="3762000"/>
                <a:ext cx="419040" cy="399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360760" y="3890520"/>
                <a:ext cx="180000" cy="6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657600" y="4857840"/>
            <a:ext cx="3943440" cy="1485720"/>
            <a:chOff x="3657600" y="4857840"/>
            <a:chExt cx="3943440" cy="1485720"/>
          </a:xfrm>
        </p:grpSpPr>
        <p:sp>
          <p:nvSpPr>
            <p:cNvPr id="158" name=""/>
            <p:cNvSpPr/>
            <p:nvPr/>
          </p:nvSpPr>
          <p:spPr>
            <a:xfrm>
              <a:off x="6076800" y="4857840"/>
              <a:ext cx="8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5295960"/>
              <a:ext cx="70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43360" y="55436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6343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10320" y="62294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67280" y="1828800"/>
            <a:ext cx="2000520" cy="3124080"/>
            <a:chOff x="5867280" y="1828800"/>
            <a:chExt cx="2000520" cy="3124080"/>
          </a:xfrm>
        </p:grpSpPr>
        <p:sp>
          <p:nvSpPr>
            <p:cNvPr id="164" name=""/>
            <p:cNvSpPr/>
            <p:nvPr/>
          </p:nvSpPr>
          <p:spPr>
            <a:xfrm>
              <a:off x="5867280" y="182880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5160" y="21718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67800" y="4229280"/>
              <a:ext cx="0" cy="72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67280" y="1790640"/>
            <a:ext cx="2362320" cy="3098880"/>
            <a:chOff x="5867280" y="1790640"/>
            <a:chExt cx="2362320" cy="3098880"/>
          </a:xfrm>
        </p:grpSpPr>
        <p:grpSp>
          <p:nvGrpSpPr>
            <p:cNvPr id="168" name=""/>
            <p:cNvGrpSpPr/>
            <p:nvPr/>
          </p:nvGrpSpPr>
          <p:grpSpPr>
            <a:xfrm>
              <a:off x="5924520" y="3219480"/>
              <a:ext cx="419040" cy="399960"/>
              <a:chOff x="5924520" y="3219480"/>
              <a:chExt cx="419040" cy="399960"/>
            </a:xfrm>
          </p:grpSpPr>
          <p:sp>
            <p:nvSpPr>
              <p:cNvPr id="169" name=""/>
              <p:cNvSpPr/>
              <p:nvPr/>
            </p:nvSpPr>
            <p:spPr>
              <a:xfrm>
                <a:off x="5924520" y="321948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34040" y="3409920"/>
                <a:ext cx="190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8215200" y="3657600"/>
              <a:ext cx="14400" cy="438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867280" y="1790640"/>
              <a:ext cx="120996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714800" y="2338560"/>
              <a:ext cx="25560" cy="1004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6640" y="4395960"/>
              <a:ext cx="11160" cy="49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633920" y="2355840"/>
            <a:ext cx="824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96080" y="1788840"/>
            <a:ext cx="1969920" cy="3152880"/>
            <a:chOff x="5896080" y="1788840"/>
            <a:chExt cx="1969920" cy="3152880"/>
          </a:xfrm>
        </p:grpSpPr>
        <p:sp>
          <p:nvSpPr>
            <p:cNvPr id="177" name=""/>
            <p:cNvSpPr/>
            <p:nvPr/>
          </p:nvSpPr>
          <p:spPr>
            <a:xfrm flipV="1">
              <a:off x="5896080" y="1788840"/>
              <a:ext cx="1377720" cy="5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722720" y="2174760"/>
              <a:ext cx="2700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39000" y="4233960"/>
              <a:ext cx="27000" cy="70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674520" y="4815360"/>
            <a:ext cx="3935880" cy="1616040"/>
            <a:chOff x="3674520" y="4815360"/>
            <a:chExt cx="3935880" cy="1616040"/>
          </a:xfrm>
        </p:grpSpPr>
        <p:sp>
          <p:nvSpPr>
            <p:cNvPr id="181" name=""/>
            <p:cNvSpPr/>
            <p:nvPr/>
          </p:nvSpPr>
          <p:spPr>
            <a:xfrm flipV="1">
              <a:off x="6032160" y="4815360"/>
              <a:ext cx="856800" cy="3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155200" y="5295240"/>
              <a:ext cx="70416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27520" y="5588640"/>
              <a:ext cx="30600" cy="76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74520" y="6394680"/>
              <a:ext cx="913680" cy="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20400" y="6159240"/>
              <a:ext cx="990000" cy="3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076640" y="1968480"/>
            <a:ext cx="3718080" cy="3173040"/>
            <a:chOff x="4076640" y="1968480"/>
            <a:chExt cx="3718080" cy="3173040"/>
          </a:xfrm>
        </p:grpSpPr>
        <p:grpSp>
          <p:nvGrpSpPr>
            <p:cNvPr id="187" name=""/>
            <p:cNvGrpSpPr/>
            <p:nvPr/>
          </p:nvGrpSpPr>
          <p:grpSpPr>
            <a:xfrm>
              <a:off x="4076640" y="2078640"/>
              <a:ext cx="3638520" cy="3062880"/>
              <a:chOff x="4076640" y="2078640"/>
              <a:chExt cx="3638520" cy="306288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590360" y="2078640"/>
                <a:ext cx="3124800" cy="2763360"/>
                <a:chOff x="4590360" y="2078640"/>
                <a:chExt cx="3124800" cy="276336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4590360" y="2078640"/>
                  <a:ext cx="3124800" cy="2763360"/>
                  <a:chOff x="4590360" y="2078640"/>
                  <a:chExt cx="3124800" cy="27633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7486560" y="3371400"/>
                    <a:ext cx="22860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4590360" y="2078640"/>
                    <a:ext cx="1350000" cy="468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449400" y="2264400"/>
                    <a:ext cx="480240" cy="13856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266240" y="4158000"/>
                    <a:ext cx="236880" cy="684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100480" y="3704400"/>
                  <a:ext cx="526680" cy="514800"/>
                  <a:chOff x="5100480" y="3704400"/>
                  <a:chExt cx="526680" cy="5148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0452800">
                    <a:off x="5154120" y="3761640"/>
                    <a:ext cx="41904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V="1">
                    <a:off x="5360760" y="3890160"/>
                    <a:ext cx="180000" cy="622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4076640" y="2095560"/>
                <a:ext cx="3598560" cy="3045960"/>
                <a:chOff x="4076640" y="2095560"/>
                <a:chExt cx="3598560" cy="304596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4076640" y="2095560"/>
                  <a:ext cx="3598560" cy="3045960"/>
                  <a:chOff x="4076640" y="2095560"/>
                  <a:chExt cx="3598560" cy="30459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628880" y="2342880"/>
                    <a:ext cx="838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4705200" y="25333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5981400" y="23810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553080" y="506700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429320" y="335268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857640" y="34858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076640" y="27619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086240" y="506700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543440" y="342900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562520" y="35240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695920" y="211428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486040" y="209556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314680" y="226692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047920" y="236196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857480" y="236196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895800" y="331452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781680" y="316224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705360" y="29905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667200" y="272412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514920" y="25333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514920" y="236196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400440" y="23428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410240" y="480060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200720" y="415260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314840" y="43052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410240" y="45907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353000" y="44002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600680" y="371448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600680" y="386712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5100480" y="3685680"/>
                  <a:ext cx="526680" cy="514800"/>
                  <a:chOff x="5100480" y="3685680"/>
                  <a:chExt cx="526680" cy="5148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20452800">
                    <a:off x="5154120" y="3742920"/>
                    <a:ext cx="41904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V="1">
                    <a:off x="5360760" y="3871440"/>
                    <a:ext cx="180000" cy="622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1" name=""/>
            <p:cNvGrpSpPr/>
            <p:nvPr/>
          </p:nvGrpSpPr>
          <p:grpSpPr>
            <a:xfrm>
              <a:off x="4567320" y="1968480"/>
              <a:ext cx="3227400" cy="2874600"/>
              <a:chOff x="4567320" y="1968480"/>
              <a:chExt cx="3227400" cy="2874600"/>
            </a:xfrm>
          </p:grpSpPr>
          <p:sp>
            <p:nvSpPr>
              <p:cNvPr id="232" name=""/>
              <p:cNvSpPr/>
              <p:nvPr/>
            </p:nvSpPr>
            <p:spPr>
              <a:xfrm>
                <a:off x="5908680" y="1968480"/>
                <a:ext cx="74520" cy="1936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67320" y="241632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6200000">
                <a:off x="6445080" y="213012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6905520" y="345384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7431120" y="323172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7608960" y="377136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7208640" y="402696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7477200" y="465732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Principe général : </a:t>
            </a:r>
            <a:br>
              <a:rPr sz="4000"/>
            </a:b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construction des hypothè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859120" y="39466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39640" y="3957120"/>
            <a:ext cx="1181520" cy="2057400"/>
            <a:chOff x="3239640" y="3957120"/>
            <a:chExt cx="1181520" cy="2057400"/>
          </a:xfrm>
        </p:grpSpPr>
        <p:sp>
          <p:nvSpPr>
            <p:cNvPr id="243" name=""/>
            <p:cNvSpPr/>
            <p:nvPr/>
          </p:nvSpPr>
          <p:spPr>
            <a:xfrm>
              <a:off x="3259080" y="39571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868560" y="5595480"/>
              <a:ext cx="399960" cy="419040"/>
              <a:chOff x="3868560" y="5595480"/>
              <a:chExt cx="399960" cy="419040"/>
            </a:xfrm>
          </p:grpSpPr>
          <p:sp>
            <p:nvSpPr>
              <p:cNvPr id="245" name=""/>
              <p:cNvSpPr/>
              <p:nvPr/>
            </p:nvSpPr>
            <p:spPr>
              <a:xfrm rot="16200000">
                <a:off x="3858840" y="560484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4059000" y="561456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7" name=""/>
            <p:cNvCxnSpPr>
              <a:stCxn id="246" idx="0"/>
              <a:endCxn id="243" idx="0"/>
            </p:cNvCxnSpPr>
            <p:nvPr/>
          </p:nvCxnSpPr>
          <p:spPr>
            <a:xfrm flipH="1" flipV="1">
              <a:off x="3239640" y="3957120"/>
              <a:ext cx="82008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48" name=""/>
            <p:cNvCxnSpPr>
              <a:stCxn id="246" idx="0"/>
              <a:endCxn id="243" idx="1"/>
            </p:cNvCxnSpPr>
            <p:nvPr/>
          </p:nvCxnSpPr>
          <p:spPr>
            <a:xfrm flipV="1">
              <a:off x="4059000" y="3957120"/>
              <a:ext cx="36252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249" name=""/>
          <p:cNvGrpSpPr/>
          <p:nvPr/>
        </p:nvGrpSpPr>
        <p:grpSpPr>
          <a:xfrm>
            <a:off x="4687560" y="3957120"/>
            <a:ext cx="1181520" cy="2057400"/>
            <a:chOff x="4687560" y="3957120"/>
            <a:chExt cx="1181520" cy="2057400"/>
          </a:xfrm>
        </p:grpSpPr>
        <p:sp>
          <p:nvSpPr>
            <p:cNvPr id="250" name=""/>
            <p:cNvSpPr/>
            <p:nvPr/>
          </p:nvSpPr>
          <p:spPr>
            <a:xfrm>
              <a:off x="4707000" y="39571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316480" y="5595480"/>
              <a:ext cx="399960" cy="419040"/>
              <a:chOff x="5316480" y="5595480"/>
              <a:chExt cx="399960" cy="419040"/>
            </a:xfrm>
          </p:grpSpPr>
          <p:sp>
            <p:nvSpPr>
              <p:cNvPr id="252" name=""/>
              <p:cNvSpPr/>
              <p:nvPr/>
            </p:nvSpPr>
            <p:spPr>
              <a:xfrm rot="16200000">
                <a:off x="5306760" y="560484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5506920" y="561456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4" name=""/>
            <p:cNvCxnSpPr>
              <a:stCxn id="253" idx="0"/>
              <a:endCxn id="250" idx="0"/>
            </p:cNvCxnSpPr>
            <p:nvPr/>
          </p:nvCxnSpPr>
          <p:spPr>
            <a:xfrm flipH="1" flipV="1">
              <a:off x="4687560" y="3957120"/>
              <a:ext cx="82008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55" name=""/>
            <p:cNvCxnSpPr>
              <a:stCxn id="253" idx="0"/>
              <a:endCxn id="250" idx="1"/>
            </p:cNvCxnSpPr>
            <p:nvPr/>
          </p:nvCxnSpPr>
          <p:spPr>
            <a:xfrm flipV="1">
              <a:off x="5506920" y="3957120"/>
              <a:ext cx="36252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256" name=""/>
          <p:cNvSpPr/>
          <p:nvPr/>
        </p:nvSpPr>
        <p:spPr>
          <a:xfrm>
            <a:off x="7126200" y="51004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73320" y="5024160"/>
            <a:ext cx="2057400" cy="1181520"/>
            <a:chOff x="2173320" y="5024160"/>
            <a:chExt cx="2057400" cy="1181520"/>
          </a:xfrm>
        </p:grpSpPr>
        <p:sp>
          <p:nvSpPr>
            <p:cNvPr id="258" name=""/>
            <p:cNvSpPr/>
            <p:nvPr/>
          </p:nvSpPr>
          <p:spPr>
            <a:xfrm>
              <a:off x="4230720" y="5043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2173320" y="5653080"/>
              <a:ext cx="419040" cy="399960"/>
              <a:chOff x="2173320" y="5653080"/>
              <a:chExt cx="419040" cy="399960"/>
            </a:xfrm>
          </p:grpSpPr>
          <p:sp>
            <p:nvSpPr>
              <p:cNvPr id="260" name=""/>
              <p:cNvSpPr/>
              <p:nvPr/>
            </p:nvSpPr>
            <p:spPr>
              <a:xfrm>
                <a:off x="2173320" y="565308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82840" y="5843520"/>
                <a:ext cx="190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2" name=""/>
            <p:cNvCxnSpPr>
              <a:stCxn id="261" idx="0"/>
              <a:endCxn id="258" idx="0"/>
            </p:cNvCxnSpPr>
            <p:nvPr/>
          </p:nvCxnSpPr>
          <p:spPr>
            <a:xfrm flipV="1">
              <a:off x="2382480" y="5024160"/>
              <a:ext cx="1848600" cy="820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63" name=""/>
            <p:cNvCxnSpPr>
              <a:stCxn id="261" idx="0"/>
              <a:endCxn id="258" idx="1"/>
            </p:cNvCxnSpPr>
            <p:nvPr/>
          </p:nvCxnSpPr>
          <p:spPr>
            <a:xfrm>
              <a:off x="2382480" y="5843520"/>
              <a:ext cx="1848600" cy="36252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264" name=""/>
          <p:cNvSpPr/>
          <p:nvPr/>
        </p:nvSpPr>
        <p:spPr>
          <a:xfrm>
            <a:off x="987480" y="58752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121752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77560" y="2023920"/>
            <a:ext cx="5028480" cy="3990600"/>
            <a:chOff x="1177560" y="2023920"/>
            <a:chExt cx="5028480" cy="3990600"/>
          </a:xfrm>
        </p:grpSpPr>
        <p:grpSp>
          <p:nvGrpSpPr>
            <p:cNvPr id="267" name=""/>
            <p:cNvGrpSpPr/>
            <p:nvPr/>
          </p:nvGrpSpPr>
          <p:grpSpPr>
            <a:xfrm>
              <a:off x="3925440" y="3957120"/>
              <a:ext cx="1181520" cy="2057400"/>
              <a:chOff x="3925440" y="3957120"/>
              <a:chExt cx="1181520" cy="2057400"/>
            </a:xfrm>
          </p:grpSpPr>
          <p:sp>
            <p:nvSpPr>
              <p:cNvPr id="268" name=""/>
              <p:cNvSpPr/>
              <p:nvPr/>
            </p:nvSpPr>
            <p:spPr>
              <a:xfrm>
                <a:off x="3944880" y="3957120"/>
                <a:ext cx="1143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4554360" y="5595480"/>
                <a:ext cx="399960" cy="419040"/>
                <a:chOff x="4554360" y="5595480"/>
                <a:chExt cx="399960" cy="419040"/>
              </a:xfrm>
            </p:grpSpPr>
            <p:sp>
              <p:nvSpPr>
                <p:cNvPr id="270" name=""/>
                <p:cNvSpPr/>
                <p:nvPr/>
              </p:nvSpPr>
              <p:spPr>
                <a:xfrm rot="16200000">
                  <a:off x="4544640" y="5604840"/>
                  <a:ext cx="419040" cy="399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4744800" y="5614560"/>
                  <a:ext cx="0" cy="190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72" name=""/>
              <p:cNvCxnSpPr>
                <a:stCxn id="271" idx="0"/>
                <a:endCxn id="268" idx="0"/>
              </p:cNvCxnSpPr>
              <p:nvPr/>
            </p:nvCxnSpPr>
            <p:spPr>
              <a:xfrm flipH="1" flipV="1">
                <a:off x="3925440" y="3957120"/>
                <a:ext cx="820080" cy="1848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273" name=""/>
              <p:cNvCxnSpPr>
                <a:stCxn id="271" idx="0"/>
                <a:endCxn id="268" idx="1"/>
              </p:cNvCxnSpPr>
              <p:nvPr/>
            </p:nvCxnSpPr>
            <p:spPr>
              <a:xfrm flipV="1">
                <a:off x="4744800" y="3957120"/>
                <a:ext cx="362520" cy="1848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274" name=""/>
            <p:cNvSpPr/>
            <p:nvPr/>
          </p:nvSpPr>
          <p:spPr>
            <a:xfrm>
              <a:off x="1177560" y="2023920"/>
              <a:ext cx="50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1 appariement -&gt; 1 hypothèse d’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75400" y="2448000"/>
            <a:ext cx="5979960" cy="3565440"/>
            <a:chOff x="1175400" y="2448000"/>
            <a:chExt cx="5979960" cy="3565440"/>
          </a:xfrm>
        </p:grpSpPr>
        <p:sp>
          <p:nvSpPr>
            <p:cNvPr id="276" name=""/>
            <p:cNvSpPr/>
            <p:nvPr/>
          </p:nvSpPr>
          <p:spPr>
            <a:xfrm flipV="1">
              <a:off x="3957480" y="3930480"/>
              <a:ext cx="112896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552920" y="5594400"/>
              <a:ext cx="399960" cy="419040"/>
              <a:chOff x="4552920" y="5594400"/>
              <a:chExt cx="399960" cy="419040"/>
            </a:xfrm>
          </p:grpSpPr>
          <p:sp>
            <p:nvSpPr>
              <p:cNvPr id="278" name=""/>
              <p:cNvSpPr/>
              <p:nvPr/>
            </p:nvSpPr>
            <p:spPr>
              <a:xfrm rot="16200000">
                <a:off x="4543200" y="560376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743360" y="561348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  <a:endCxn id="276" idx="0"/>
            </p:cNvCxnSpPr>
            <p:nvPr/>
          </p:nvCxnSpPr>
          <p:spPr>
            <a:xfrm flipH="1" flipV="1">
              <a:off x="3936240" y="3968280"/>
              <a:ext cx="803880" cy="18345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81" name=""/>
            <p:cNvCxnSpPr>
              <a:stCxn id="279" idx="0"/>
              <a:endCxn id="276" idx="1"/>
            </p:cNvCxnSpPr>
            <p:nvPr/>
          </p:nvCxnSpPr>
          <p:spPr>
            <a:xfrm flipV="1">
              <a:off x="4740120" y="3930120"/>
              <a:ext cx="364320" cy="187272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grpSp>
          <p:nvGrpSpPr>
            <p:cNvPr id="282" name=""/>
            <p:cNvGrpSpPr/>
            <p:nvPr/>
          </p:nvGrpSpPr>
          <p:grpSpPr>
            <a:xfrm>
              <a:off x="1175400" y="2448000"/>
              <a:ext cx="5979960" cy="3354480"/>
              <a:chOff x="1175400" y="2448000"/>
              <a:chExt cx="5979960" cy="3354480"/>
            </a:xfrm>
          </p:grpSpPr>
          <p:sp>
            <p:nvSpPr>
              <p:cNvPr id="283" name=""/>
              <p:cNvSpPr/>
              <p:nvPr/>
            </p:nvSpPr>
            <p:spPr>
              <a:xfrm flipH="1">
                <a:off x="7100640" y="5330880"/>
                <a:ext cx="52200" cy="31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4" name=""/>
              <p:cNvCxnSpPr>
                <a:stCxn id="271" idx="0"/>
                <a:endCxn id="283" idx="0"/>
              </p:cNvCxnSpPr>
              <p:nvPr/>
            </p:nvCxnSpPr>
            <p:spPr>
              <a:xfrm flipV="1">
                <a:off x="4740120" y="5311080"/>
                <a:ext cx="2415600" cy="4914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285" name=""/>
              <p:cNvCxnSpPr>
                <a:stCxn id="271" idx="0"/>
                <a:endCxn id="283" idx="1"/>
              </p:cNvCxnSpPr>
              <p:nvPr/>
            </p:nvCxnSpPr>
            <p:spPr>
              <a:xfrm flipV="1">
                <a:off x="4740120" y="5665320"/>
                <a:ext cx="2363040" cy="13752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286" name=""/>
              <p:cNvSpPr/>
              <p:nvPr/>
            </p:nvSpPr>
            <p:spPr>
              <a:xfrm>
                <a:off x="1175400" y="2448000"/>
                <a:ext cx="500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2 appariements -&gt; 1 hypothèse de posi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 flipH="1">
            <a:off x="2368440" y="4518000"/>
            <a:ext cx="309600" cy="61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63520" y="2860560"/>
            <a:ext cx="57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+n appariements -&gt; renforcement + affin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’hypothèse d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465280" y="4672080"/>
            <a:ext cx="154080" cy="322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79" idx="0"/>
            <a:endCxn id="289" idx="0"/>
          </p:cNvCxnSpPr>
          <p:nvPr/>
        </p:nvCxnSpPr>
        <p:spPr>
          <a:xfrm flipH="1" flipV="1">
            <a:off x="2466720" y="5010840"/>
            <a:ext cx="2275200" cy="7916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1" name=""/>
          <p:cNvCxnSpPr>
            <a:stCxn id="279" idx="0"/>
            <a:endCxn id="289" idx="0"/>
          </p:cNvCxnSpPr>
          <p:nvPr/>
        </p:nvCxnSpPr>
        <p:spPr>
          <a:xfrm flipH="1" flipV="1">
            <a:off x="2620800" y="4652280"/>
            <a:ext cx="2121480" cy="11502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Difficult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mprécision (mesures, seg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binatoire (nombreux seg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mbiguités (segments à angles droi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 particulier en absence de préd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ynamique (robot en mouveme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temps réel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(!= Ya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rith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/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2/ prédiction position (trac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3/ carte d’aspect (trac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4/ groupement angu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5/ construction d’hypothè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6/ sélection d’une hypothè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7/ mise à jour de la ca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8/ calcul transformation odomét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1/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38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indre carr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+ Kalman pour l’incer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ints isolés perd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as de caractérisation des extrém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876920" y="2707560"/>
            <a:ext cx="3638520" cy="3081960"/>
            <a:chOff x="4876920" y="2707560"/>
            <a:chExt cx="3638520" cy="3081960"/>
          </a:xfrm>
        </p:grpSpPr>
        <p:grpSp>
          <p:nvGrpSpPr>
            <p:cNvPr id="299" name=""/>
            <p:cNvGrpSpPr/>
            <p:nvPr/>
          </p:nvGrpSpPr>
          <p:grpSpPr>
            <a:xfrm>
              <a:off x="5390640" y="2707560"/>
              <a:ext cx="3124800" cy="2763720"/>
              <a:chOff x="5390640" y="2707560"/>
              <a:chExt cx="3124800" cy="276372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5390640" y="2707560"/>
                <a:ext cx="3124800" cy="2763720"/>
                <a:chOff x="5390640" y="2707560"/>
                <a:chExt cx="3124800" cy="27637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286840" y="4000320"/>
                  <a:ext cx="228600" cy="57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390640" y="2707560"/>
                  <a:ext cx="1350000" cy="46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249680" y="2892960"/>
                  <a:ext cx="480240" cy="13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6520" y="4786920"/>
                  <a:ext cx="237240" cy="68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900760" y="4333320"/>
                <a:ext cx="527040" cy="515160"/>
                <a:chOff x="5900760" y="4333320"/>
                <a:chExt cx="527040" cy="515160"/>
              </a:xfrm>
            </p:grpSpPr>
            <p:sp>
              <p:nvSpPr>
                <p:cNvPr id="306" name=""/>
                <p:cNvSpPr/>
                <p:nvPr/>
              </p:nvSpPr>
              <p:spPr>
                <a:xfrm rot="20452800">
                  <a:off x="5954400" y="4390560"/>
                  <a:ext cx="419040" cy="399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6161040" y="4519440"/>
                  <a:ext cx="180000" cy="6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505480" y="31813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1680" y="302904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53360" y="57150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29600" y="40006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8280" y="41338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76920" y="34099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86880" y="57150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44080" y="407664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62800" y="417204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96200" y="27622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86680" y="27432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14960" y="29145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48200" y="300996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7760" y="300996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96080" y="396252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196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05640" y="36385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67480" y="33717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15200" y="31813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5200" y="300996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1080" y="29908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10520" y="544824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1000" y="48006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15480" y="4952880"/>
              <a:ext cx="7452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210520" y="52387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53280" y="504828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00960" y="436248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00960" y="45147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452800">
              <a:off x="5954760" y="4390560"/>
              <a:ext cx="419040" cy="400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159960" y="4518360"/>
              <a:ext cx="180000" cy="6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852200" y="3809880"/>
            <a:ext cx="2262240" cy="1690200"/>
            <a:chOff x="1852200" y="3809880"/>
            <a:chExt cx="2262240" cy="1690200"/>
          </a:xfrm>
        </p:grpSpPr>
        <p:grpSp>
          <p:nvGrpSpPr>
            <p:cNvPr id="339" name=""/>
            <p:cNvGrpSpPr/>
            <p:nvPr/>
          </p:nvGrpSpPr>
          <p:grpSpPr>
            <a:xfrm>
              <a:off x="1852200" y="3809880"/>
              <a:ext cx="2262240" cy="1690200"/>
              <a:chOff x="1852200" y="3809880"/>
              <a:chExt cx="2262240" cy="169020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1852200" y="3809880"/>
                <a:ext cx="2262240" cy="1690200"/>
                <a:chOff x="1852200" y="3809880"/>
                <a:chExt cx="2262240" cy="169020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2515320" y="3886200"/>
                  <a:ext cx="1599120" cy="1613880"/>
                  <a:chOff x="2515320" y="3886200"/>
                  <a:chExt cx="1599120" cy="161388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05280" y="4485960"/>
                    <a:ext cx="527040" cy="515160"/>
                    <a:chOff x="3005280" y="4485960"/>
                    <a:chExt cx="527040" cy="51516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rot="20452800">
                      <a:off x="3058920" y="4543200"/>
                      <a:ext cx="419040" cy="399960"/>
                    </a:xfrm>
                    <a:prstGeom prst="ellipse">
                      <a:avLst/>
                    </a:prstGeom>
                    <a:solidFill>
                      <a:srgbClr val="00e4a8"/>
                    </a:solidFill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V="1">
                      <a:off x="3264480" y="4671000"/>
                      <a:ext cx="179640" cy="622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"/>
                  <p:cNvSpPr/>
                  <p:nvPr/>
                </p:nvSpPr>
                <p:spPr>
                  <a:xfrm flipV="1">
                    <a:off x="3276720" y="3886200"/>
                    <a:ext cx="0" cy="838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276720" y="4724280"/>
                    <a:ext cx="609480" cy="533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515320" y="3886200"/>
                    <a:ext cx="1599120" cy="161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09" y="7"/>
                        </a:moveTo>
                        <a:arcTo wR="10800" hR="10800" stAng="-5524375" swAng="8158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09" y="7"/>
                        </a:moveTo>
                        <a:arcTo wR="10800" hR="10800" stAng="-5524375" swAng="8158259"/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8" name=""/>
                <p:cNvSpPr/>
                <p:nvPr/>
              </p:nvSpPr>
              <p:spPr>
                <a:xfrm>
                  <a:off x="1852200" y="3809880"/>
                  <a:ext cx="1452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e4a8"/>
                      </a:solidFill>
                      <a:latin typeface="Tahoma"/>
                    </a:rPr>
                    <a:t>(Po, Vo)</a:t>
                  </a:r>
                  <a:r>
                    <a:rPr b="0" lang="en-US" sz="2800" spc="-1" strike="noStrike" baseline="-25000">
                      <a:solidFill>
                        <a:srgbClr val="00e4a8"/>
                      </a:solidFill>
                      <a:latin typeface="Tahoma"/>
                    </a:rPr>
                    <a:t>t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3194640" y="49528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 rot="20701200">
              <a:off x="3085920" y="4255560"/>
              <a:ext cx="380880" cy="990720"/>
            </a:xfrm>
            <a:prstGeom prst="ellipse">
              <a:avLst/>
            </a:prstGeom>
            <a:noFill/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2/ prédiction po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de tracking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édiction probabili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69160" y="5334120"/>
            <a:ext cx="954720" cy="1254960"/>
            <a:chOff x="569160" y="5334120"/>
            <a:chExt cx="954720" cy="1254960"/>
          </a:xfrm>
        </p:grpSpPr>
        <p:grpSp>
          <p:nvGrpSpPr>
            <p:cNvPr id="354" name=""/>
            <p:cNvGrpSpPr/>
            <p:nvPr/>
          </p:nvGrpSpPr>
          <p:grpSpPr>
            <a:xfrm>
              <a:off x="762120" y="5334120"/>
              <a:ext cx="761760" cy="914400"/>
              <a:chOff x="762120" y="5334120"/>
              <a:chExt cx="761760" cy="91440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762120" y="53341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2120" y="624852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569160" y="612936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61680" y="4319280"/>
            <a:ext cx="991440" cy="1245960"/>
            <a:chOff x="1561680" y="4319280"/>
            <a:chExt cx="991440" cy="1245960"/>
          </a:xfrm>
        </p:grpSpPr>
        <p:grpSp>
          <p:nvGrpSpPr>
            <p:cNvPr id="359" name=""/>
            <p:cNvGrpSpPr/>
            <p:nvPr/>
          </p:nvGrpSpPr>
          <p:grpSpPr>
            <a:xfrm>
              <a:off x="1561680" y="4319280"/>
              <a:ext cx="991440" cy="876240"/>
              <a:chOff x="1561680" y="4319280"/>
              <a:chExt cx="991440" cy="876240"/>
            </a:xfrm>
          </p:grpSpPr>
          <p:sp>
            <p:nvSpPr>
              <p:cNvPr id="360" name=""/>
              <p:cNvSpPr/>
              <p:nvPr/>
            </p:nvSpPr>
            <p:spPr>
              <a:xfrm flipH="1" flipV="1">
                <a:off x="1561680" y="4319280"/>
                <a:ext cx="261720" cy="87624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823400" y="4977360"/>
                <a:ext cx="729720" cy="2181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801440" y="510552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e4a8"/>
                  </a:solidFill>
                  <a:latin typeface="Tahoma"/>
                </a:rPr>
                <a:t>o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04560" y="4038480"/>
            <a:ext cx="1377000" cy="2103840"/>
            <a:chOff x="3004560" y="4038480"/>
            <a:chExt cx="1377000" cy="2103840"/>
          </a:xfrm>
        </p:grpSpPr>
        <p:sp>
          <p:nvSpPr>
            <p:cNvPr id="364" name=""/>
            <p:cNvSpPr/>
            <p:nvPr/>
          </p:nvSpPr>
          <p:spPr>
            <a:xfrm>
              <a:off x="3004560" y="5562720"/>
              <a:ext cx="1377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(Ps, Vs)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ahoma"/>
                </a:rPr>
                <a:t>t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429000" y="4038480"/>
              <a:ext cx="609480" cy="990720"/>
              <a:chOff x="3429000" y="4038480"/>
              <a:chExt cx="609480" cy="99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3581280" y="5029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038480" y="45720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429000" y="4038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620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 rot="20095800">
              <a:off x="3123720" y="4419360"/>
              <a:ext cx="30492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38120" y="3790440"/>
            <a:ext cx="1739160" cy="1334520"/>
            <a:chOff x="3138120" y="3790440"/>
            <a:chExt cx="1739160" cy="1334520"/>
          </a:xfrm>
        </p:grpSpPr>
        <p:cxnSp>
          <p:nvCxnSpPr>
            <p:cNvPr id="372" name=""/>
            <p:cNvCxnSpPr>
              <a:stCxn id="370" idx="4"/>
              <a:endCxn id="373" idx="4"/>
            </p:cNvCxnSpPr>
            <p:nvPr/>
          </p:nvCxnSpPr>
          <p:spPr>
            <a:xfrm>
              <a:off x="3413160" y="5016600"/>
              <a:ext cx="1464480" cy="108720"/>
            </a:xfrm>
            <a:prstGeom prst="straightConnector1">
              <a:avLst/>
            </a:prstGeom>
            <a:ln w="9360">
              <a:solidFill>
                <a:srgbClr val="00e4a8"/>
              </a:solidFill>
              <a:miter/>
            </a:ln>
          </p:spPr>
        </p:cxnSp>
        <p:cxnSp>
          <p:nvCxnSpPr>
            <p:cNvPr id="374" name=""/>
            <p:cNvCxnSpPr>
              <a:stCxn id="370" idx="0"/>
              <a:endCxn id="373" idx="0"/>
            </p:cNvCxnSpPr>
            <p:nvPr/>
          </p:nvCxnSpPr>
          <p:spPr>
            <a:xfrm flipV="1">
              <a:off x="3138120" y="3790440"/>
              <a:ext cx="1739160" cy="640800"/>
            </a:xfrm>
            <a:prstGeom prst="straightConnector1">
              <a:avLst/>
            </a:prstGeom>
            <a:ln w="9360">
              <a:solidFill>
                <a:srgbClr val="00e4a8"/>
              </a:solidFill>
              <a:miter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3276720" y="3124080"/>
            <a:ext cx="3430080" cy="2363040"/>
            <a:chOff x="3276720" y="3124080"/>
            <a:chExt cx="3430080" cy="2363040"/>
          </a:xfrm>
        </p:grpSpPr>
        <p:grpSp>
          <p:nvGrpSpPr>
            <p:cNvPr id="376" name=""/>
            <p:cNvGrpSpPr/>
            <p:nvPr/>
          </p:nvGrpSpPr>
          <p:grpSpPr>
            <a:xfrm>
              <a:off x="3276720" y="3124080"/>
              <a:ext cx="3430080" cy="2363040"/>
              <a:chOff x="3276720" y="3124080"/>
              <a:chExt cx="3430080" cy="236304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3276720" y="3124080"/>
                <a:ext cx="3047760" cy="2363040"/>
                <a:chOff x="3276720" y="3124080"/>
                <a:chExt cx="3047760" cy="23630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276720" y="3733920"/>
                  <a:ext cx="3047760" cy="990360"/>
                </a:xfrm>
                <a:custGeom>
                  <a:avLst/>
                  <a:gdLst/>
                  <a:ahLst/>
                  <a:rect l="l" t="t" r="r" b="b"/>
                  <a:pathLst>
                    <a:path w="1920" h="624">
                      <a:moveTo>
                        <a:pt x="0" y="624"/>
                      </a:moveTo>
                      <a:cubicBezTo>
                        <a:pt x="92" y="604"/>
                        <a:pt x="184" y="584"/>
                        <a:pt x="288" y="528"/>
                      </a:cubicBezTo>
                      <a:cubicBezTo>
                        <a:pt x="392" y="472"/>
                        <a:pt x="480" y="304"/>
                        <a:pt x="624" y="288"/>
                      </a:cubicBezTo>
                      <a:cubicBezTo>
                        <a:pt x="768" y="272"/>
                        <a:pt x="936" y="480"/>
                        <a:pt x="1152" y="432"/>
                      </a:cubicBezTo>
                      <a:cubicBezTo>
                        <a:pt x="1368" y="384"/>
                        <a:pt x="1644" y="192"/>
                        <a:pt x="192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3864240" y="3299400"/>
                  <a:ext cx="2181960" cy="2187720"/>
                  <a:chOff x="3864240" y="3299400"/>
                  <a:chExt cx="2181960" cy="2187720"/>
                </a:xfrm>
              </p:grpSpPr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4649760" y="4181760"/>
                    <a:ext cx="481680" cy="466560"/>
                    <a:chOff x="4649760" y="4181760"/>
                    <a:chExt cx="481680" cy="46656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597600">
                      <a:off x="4681080" y="4214880"/>
                      <a:ext cx="419040" cy="399960"/>
                    </a:xfrm>
                    <a:prstGeom prst="ellipse">
                      <a:avLst/>
                    </a:prstGeom>
                    <a:solidFill>
                      <a:srgbClr val="00e4a8"/>
                    </a:solidFill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891680" y="4403880"/>
                      <a:ext cx="187560" cy="331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"/>
                  <p:cNvSpPr/>
                  <p:nvPr/>
                </p:nvSpPr>
                <p:spPr>
                  <a:xfrm flipV="1">
                    <a:off x="4906800" y="3669480"/>
                    <a:ext cx="407520" cy="73260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906800" y="4402080"/>
                    <a:ext cx="273240" cy="7624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744800">
                    <a:off x="4155480" y="3585960"/>
                    <a:ext cx="1599120" cy="161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09" y="7"/>
                        </a:moveTo>
                        <a:arcTo wR="10800" hR="10800" stAng="-5524375" swAng="8158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09" y="7"/>
                        </a:moveTo>
                        <a:arcTo wR="10800" hR="10800" stAng="-5524375" swAng="8158259"/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>
                  <a:off x="3757320" y="3124080"/>
                  <a:ext cx="1452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e4a8"/>
                      </a:solidFill>
                      <a:latin typeface="Tahoma"/>
                    </a:rPr>
                    <a:t>(Po, Vo)</a:t>
                  </a:r>
                  <a:r>
                    <a:rPr b="0" lang="en-US" sz="2800" spc="-1" strike="noStrike" baseline="-25000">
                      <a:solidFill>
                        <a:srgbClr val="00e4a8"/>
                      </a:solidFill>
                      <a:latin typeface="Tahoma"/>
                    </a:rPr>
                    <a:t>t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083920" y="4376880"/>
                  <a:ext cx="46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t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095880" y="3421800"/>
                <a:ext cx="610920" cy="924120"/>
                <a:chOff x="6095880" y="3421800"/>
                <a:chExt cx="610920" cy="92412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6095880" y="3421800"/>
                  <a:ext cx="572040" cy="567000"/>
                  <a:chOff x="6095880" y="3421800"/>
                  <a:chExt cx="572040" cy="5670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9527600">
                    <a:off x="6172200" y="3504960"/>
                    <a:ext cx="419040" cy="39996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V="1">
                    <a:off x="6374880" y="3588840"/>
                    <a:ext cx="156600" cy="10800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2" name=""/>
                <p:cNvSpPr/>
                <p:nvPr/>
              </p:nvSpPr>
              <p:spPr>
                <a:xfrm>
                  <a:off x="6242760" y="3886200"/>
                  <a:ext cx="46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t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 rot="20804400">
              <a:off x="4581000" y="3643200"/>
              <a:ext cx="657360" cy="1711440"/>
            </a:xfrm>
            <a:prstGeom prst="ellipse">
              <a:avLst/>
            </a:prstGeom>
            <a:noFill/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667040" y="3799080"/>
            <a:ext cx="2080800" cy="2217600"/>
            <a:chOff x="4667040" y="3799080"/>
            <a:chExt cx="2080800" cy="2217600"/>
          </a:xfrm>
        </p:grpSpPr>
        <p:grpSp>
          <p:nvGrpSpPr>
            <p:cNvPr id="395" name=""/>
            <p:cNvGrpSpPr/>
            <p:nvPr/>
          </p:nvGrpSpPr>
          <p:grpSpPr>
            <a:xfrm>
              <a:off x="4942440" y="5284800"/>
              <a:ext cx="1805400" cy="731880"/>
              <a:chOff x="4942440" y="5284800"/>
              <a:chExt cx="1805400" cy="731880"/>
            </a:xfrm>
          </p:grpSpPr>
          <p:sp>
            <p:nvSpPr>
              <p:cNvPr id="396" name=""/>
              <p:cNvSpPr/>
              <p:nvPr/>
            </p:nvSpPr>
            <p:spPr>
              <a:xfrm>
                <a:off x="4942440" y="5284800"/>
                <a:ext cx="1805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(Ps, Vs</a:t>
                </a:r>
                <a:r>
                  <a:rPr b="0" lang="en-US" sz="2800" spc="-1" strike="noStrike" baseline="-25000">
                    <a:solidFill>
                      <a:srgbClr val="ff0000"/>
                    </a:solidFill>
                    <a:latin typeface="Tahoma"/>
                  </a:rPr>
                  <a:t>t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) </a:t>
                </a:r>
                <a:r>
                  <a:rPr b="0" lang="en-US" sz="2800" spc="-1" strike="noStrike" baseline="-25000">
                    <a:solidFill>
                      <a:srgbClr val="ff0000"/>
                    </a:solidFill>
                    <a:latin typeface="Tahoma"/>
                  </a:rPr>
                  <a:t>t1 </a:t>
                </a:r>
                <a:r>
                  <a:rPr b="0" lang="en-US" sz="4000" spc="-1" strike="noStrike">
                    <a:solidFill>
                      <a:srgbClr val="ff0000"/>
                    </a:solidFill>
                    <a:latin typeface="Tahoma"/>
                  </a:rPr>
                  <a:t>?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29560" y="5335560"/>
                <a:ext cx="914400" cy="152280"/>
              </a:xfrm>
              <a:custGeom>
                <a:avLst/>
                <a:gdLst/>
                <a:ahLst/>
                <a:rect l="l" t="t" r="r" b="b"/>
                <a:pathLst>
                  <a:path w="576" h="96">
                    <a:moveTo>
                      <a:pt x="0" y="96"/>
                    </a:moveTo>
                    <a:lnTo>
                      <a:pt x="288" y="0"/>
                    </a:lnTo>
                    <a:lnTo>
                      <a:pt x="576" y="9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rot="21293400">
              <a:off x="4723920" y="3809880"/>
              <a:ext cx="304920" cy="1295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15:18:34Z</dcterms:created>
  <dc:creator>MIS</dc:creator>
  <dc:description/>
  <dc:language>en-US</dc:language>
  <cp:lastModifiedBy>Dimitri Peaucelle</cp:lastModifiedBy>
  <cp:lastPrinted>2006-06-14T13:32:52Z</cp:lastPrinted>
  <dcterms:modified xsi:type="dcterms:W3CDTF">2006-06-14T13:35:46Z</dcterms:modified>
  <cp:revision>162</cp:revision>
  <dc:subject/>
  <dc:title>SEGLOC</dc:title>
</cp:coreProperties>
</file>