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B52-DCE3-4252-9608-18C4F5F6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FA0-5A60-4061-B0BB-868197F5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EA4-9C79-48EB-B225-CEA6F357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12C-7EFF-49DC-8ACC-22D8C53C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17F0-ECD4-4606-8233-A854AD08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36E-64A7-42C8-AA4C-0D040BFF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C4E7-446C-4117-971C-F4DEC66A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A606-08AF-4E88-8D52-5580DD64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1170-D053-48C7-8ABB-C0F5299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A442-E5B1-431A-810A-4A1597EB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F502-0A51-4691-A217-296E6B9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54A-58CF-49FE-A100-BC31E739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51F9-6156-456F-9868-FF8D24C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2923-E595-4666-A014-BC0E81DA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0AD1-52AA-4F74-B480-E93E784C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EB9B-DF04-471B-BAD8-7990B850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513C-3CD9-4C3E-A2A0-9EEBCF29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02B-9BE0-40A4-AA5E-79A606C8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B52-3A00-4EB5-9A09-524E8AF9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393-9C78-46EE-A9AC-7AB87FC7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E2F-7075-4263-AE97-BF362F5D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8C8-D6EE-47D0-8225-E81DC02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B2A-77CB-4FCA-BF67-10257448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034-483E-4C2D-9CA9-5630C58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80BD-2FDF-45A8-9352-300458D424AC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EF81-B80A-40F5-8E24-6E368BE9025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52" name="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to u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Structure position 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POM_EULER_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EULER_V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      euler;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ARIANCE      v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EULER_V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EULER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yaw, pitch, rol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x, y, 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EUL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EULER_VARIANC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p, vp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r, vpr, vr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x, vpx, vrx, vx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y, vpy, vry, vxy, vy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z, vpz, vrz, vxz, vyz, vz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EULER_VARIAN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sing: A Motion Estimator (ME)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 .ge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ires: pom;</a:t>
            </a:r>
            <a:r>
              <a:rPr b="0" lang="fr-FR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port from p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Struct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Motion Estimator Poster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r MEPos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pdate:                 us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ype:                     POM_ME_P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c_task:            PosterTas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Motion Estimator (ME)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c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b87f2"/>
                </a:solidFill>
                <a:latin typeface="Arial"/>
              </a:rPr>
              <a:t>#inclu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"pomStruct.h"          /* pom ME client librar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ucture produced by a motion estim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def struct POM_ME_PO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ME_CLASS class;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POM_ME_ABSOLUTE or POM_ME_DELT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unus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uble confidence;               /* must be in [0-1]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dat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date2;                              /* to disapear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main;         /* mainToOrigi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VLo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PomMEP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Sensor Estimator (SE)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c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b87f2"/>
                </a:solidFill>
                <a:latin typeface="Arial"/>
              </a:rPr>
              <a:t>#inclu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"pomStruct.h"          /* pom ME client librar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 produced by a Sensor Estimator (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def struct POM_SENSOR_PO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p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sensorToMa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mainToBa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mainToOri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VLo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POM_SENSOR_P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position consumer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.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 posters updating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c_task PosterTas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iod:                 RFLEX_TICKS_PERI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lay:                   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:                 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ck_size:            800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_init_func:           rflexPosterTaskIn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_end_func:          rflexPosterTask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_func:                  rflexPosterTrackPe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12bd00"/>
                </a:solidFill>
                <a:latin typeface="Arial"/>
              </a:rPr>
              <a:t>posters_input:       POM_SENSOR_P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position consumer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c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Get the pom's current positi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SDI_F-&gt;pomTagging == RFLEX_ENABLE_POMTA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fr-FR" sz="1600" spc="-1" strike="noStrike">
                <a:solidFill>
                  <a:srgbClr val="12bd00"/>
                </a:solidFill>
                <a:latin typeface="Arial"/>
              </a:rPr>
              <a:t>posterFind("pomRobotFramePos",&amp;pomFrameId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= OK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puts("rflex: could not get frame\n", stde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mFrameId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bilan = S_rflexPumpTask_POSTER_NOT_FOU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ETH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fr-FR" sz="1600" spc="-1" strike="noStrike">
                <a:solidFill>
                  <a:srgbClr val="12bd00"/>
                </a:solidFill>
                <a:latin typeface="Arial"/>
              </a:rPr>
              <a:t>rflexPOM_SENSOR_POSPosterRead(pomFrameId,&amp;firstFrame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= OK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puts("rflex: could not read frame\n", stde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mFrameId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bilan = S_rflexPumpTask_POSTER_NOT_FOU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ETH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running Motion or Sensor Estim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ript tc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b87f2"/>
                </a:solidFill>
                <a:latin typeface="Arial"/>
              </a:rPr>
              <a:t>## INS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::SetModel /usr/local/openrobots/data/robots/rackham/geom/b21r.ge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b87f2"/>
                </a:solidFill>
                <a:latin typeface="Arial"/>
              </a:rPr>
              <a:t>## RFLEX / P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flex::PomTagging RFLEX_ENABLE_POM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bd00"/>
                </a:solidFill>
                <a:latin typeface="Arial"/>
              </a:rPr>
              <a:t>pom::AddME rflex POM_FUS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::SetRefME r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::Run POM_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5b87f2"/>
                </a:solidFill>
                <a:latin typeface="Arial"/>
              </a:rPr>
              <a:t>## PLATINE/P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tine::InitDriver /dev/ttyR7 9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bd00"/>
                </a:solidFill>
                <a:latin typeface="Arial"/>
              </a:rPr>
              <a:t>pom::AddSE platine Platine Robot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Doc/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s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/modules/pom/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ule rflex (mainly codels/rflexPostersTaskCodels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ule pla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OM and INSI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M module uses 2 libr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M: Position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ntralizes all the estimated positions of the rob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Situ: Internal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nages the graph (the links) of the frames on the rob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Robot positions mana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l the Motion Estimators (ME) export their robot position for P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M produces one fused position for the robot (relative and absol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5400000">
            <a:off x="3474720" y="1782360"/>
            <a:ext cx="307476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Frames Pos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 the Sensors Estimators (SE) export their sensor position for P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M produces </a:t>
            </a:r>
            <a:r>
              <a:rPr b="0" lang="fr-FR" sz="2400" spc="-1" strike="noStrike">
                <a:solidFill>
                  <a:srgbClr val="000000"/>
                </a:solidFill>
                <a:latin typeface="ヒラギノ角ゴ Pro W3"/>
              </a:rPr>
              <a:t>_x0004_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e position for each (sensor) frame on robo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 the data must be tagged at acquisition time with its sensor configuration exported by P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5400000">
            <a:off x="3176280" y="1090080"/>
            <a:ext cx="2638440" cy="85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: Rackham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3538440" cy="472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200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Example: Rackham’s fr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b21r geometric model 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Frame decla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Camera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CameraEV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Plati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Si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The common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in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Links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040" y="2057040"/>
            <a:ext cx="2438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Camera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Plati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0.0 0.0 0.07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0.0 0.0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Plati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0.2 0.0 1.8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0.0 0.0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362320"/>
            <a:ext cx="259092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Si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-0.04 0.0 0.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0.0 0.0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CameraEV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0.065 -0.08 1.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1.526 0.0 1.52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: Jid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828440"/>
            <a:ext cx="4038480" cy="209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05120" y="1712880"/>
            <a:ext cx="54100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: Jid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Jidowanki geometric model 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Frame decla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---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enter of wheel axis projected onto fl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enter of front SICK (motoriz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Front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enter of rear S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Rear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amera on p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Pole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--- arm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z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R6*-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*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Base*-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+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|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|          | fro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+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mount point of robot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Base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position of last link of the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95680" y="1828440"/>
            <a:ext cx="2438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1828800"/>
            <a:ext cx="213372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Base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180  0.0  0.924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93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Fo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10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Gripp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15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Arm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-0.100  0.0  0.12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1752480"/>
            <a:ext cx="213336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6DOF force sensor (wr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Fo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Gri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Gripp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amera on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Arm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main 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in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Link decla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Front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350 0.0 0.27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Rear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-0.350 0.0  0.27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Pole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 within Pom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M module exportes 1 poster per frame « </a:t>
            </a:r>
            <a:r>
              <a:rPr b="0" lang="fr-FR" sz="2800" spc="-1" strike="noStrike">
                <a:solidFill>
                  <a:srgbClr val="12bd00"/>
                </a:solidFill>
                <a:latin typeface="Arial"/>
              </a:rPr>
              <a:t>pom&lt;FramecdName&gt;Po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 POM_SENSOR_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SENSOR_POS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   date;                                                      /* time of acquisition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   p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sensorToMain;        /* transformation from the sensor's frame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* main robot's fram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mainToBase;          /* transformation  from the robot's main fram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* the current local fram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mainToOrigin;         /* transformation  from the robot's main fram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* the global absolute fram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VLocal;                     /* Local velocities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SENSOR_P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8:01:37Z</dcterms:created>
  <dc:creator>Maxime Cottret</dc:creator>
  <dc:description/>
  <dc:language>en-US</dc:language>
  <cp:lastModifiedBy>Sara Fleury</cp:lastModifiedBy>
  <cp:lastPrinted>1904-01-01T00:00:00Z</cp:lastPrinted>
  <dcterms:modified xsi:type="dcterms:W3CDTF">2006-04-28T17:04:27Z</dcterms:modified>
  <cp:revision>28</cp:revision>
  <dc:subject/>
  <dc:title>POM / INSITU</dc:title>
</cp:coreProperties>
</file>