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BCC-0337-4D2A-89AC-0142AE7A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74A-54DF-4ADD-80D4-DE950B6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686-9C0A-4944-A14D-44FBB15A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CE3-99CA-4F66-A1A1-6409E8D4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ECF0-EF4D-48AE-B5FB-0D6DAB32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03E-5177-4BF0-A678-14A5C12E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ED3-0205-4A17-80CC-ECB4DDC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B1C4-146D-4AA4-8199-C68C04B5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83E2-4F89-4121-8630-B3A0570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B0C9-E6F8-49BB-8E87-23BFA6D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AC4-C1C6-4B84-8C21-213942F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69B-F4C0-4D98-AF72-75FA3BC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DA3C-F676-4C9F-8579-A0B2C2C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A11-AA0E-418C-9E7A-F34464B0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D6A-4D03-45DB-B1A7-2FB5F8D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2D91-BA55-4A25-98F5-BA5A483C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D84-3E7C-43F6-933A-1AEF07A3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ED9-CFE2-4F71-807E-15483AF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41E-F89E-4B17-9271-38033F7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4B1-1901-4FCA-B272-C5FA67D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EF7-85CD-47E2-8EED-54E8F54F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F99-CF83-4335-814E-8607C95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9B0-1AD1-454E-82DF-80705B40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8CF-7545-46A8-B4DF-B0902BE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CA9-85AC-4532-8495-F447BF6C613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40E7-EB43-4468-8ABF-04F518A3F6E1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560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52" name="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/>
              <a:ahLst/>
              <a:rect l="l" t="t" r="r" b="b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5a5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9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/>
              <a:ahLst/>
              <a:rect l="l" t="t" r="r" b="b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854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u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ucture position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POM_EULER_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      euler;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ARIANCE      v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yaw, pitch, rol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x, y, 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EULER_VARIANC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p, vp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r, vpr, vr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x, vpx, vrx, vx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y, vpy, vry, vxy, vy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uble voz, vpz, vrz, vxz, vyz, vz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EULER_VARIA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sing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 .ge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ires: pom;</a:t>
            </a:r>
            <a:r>
              <a:rPr b="0" lang="fr-FR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ort from p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Struct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Motion Estimator Poster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r MEPo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pdate:                 us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:                     POM_ME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:            PosterTas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Motion Estimator (M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 produced by a motion estim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ME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ME_CLASS class;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POM_ME_ABSOLUTE or POM_ME_DELT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unus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uble confidence;               /* must be in [0-1]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2;                              /* to disapear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;         /* mainToOrigi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ME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Sensor Estimator (SE)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b87f2"/>
                </a:solidFill>
                <a:latin typeface="Arial"/>
              </a:rPr>
              <a:t>#incl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"pomStruct.h"          /* pom ME client libra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roduced by a Sensor Estimator (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 p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sensorToM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Ba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mainToOri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_EULER_V VLo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 .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*  posters updatin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c_task PosterTas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iod:                 RFLEX_TICKS_PERI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lay:                   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:                 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_size:            8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init_func:           rflexPosterTaskIn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end_func:          rflexPosterTask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_func:                  rflexPosterTrackPe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sters_input:       POM_SENSOR_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a position consumer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c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* Get the pom's current posi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SDI_F-&gt;pomTagging == RFLEX_ENABLE_POMTA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posterFind("pomRobotFramePos",&amp;pomFrameId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get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fr-FR" sz="1600" spc="-1" strike="noStrike">
                <a:solidFill>
                  <a:srgbClr val="12bd00"/>
                </a:solidFill>
                <a:latin typeface="Arial"/>
              </a:rPr>
              <a:t>rflexPOM_SENSOR_POSPosterRead(pomFrameId,&amp;firstFrame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= OK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puts("rflex: could not read frame\n", stder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mFrameId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bilan = S_rflexPumpTask_POSTER_NOT_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ETH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Utilization: running Motion or Sensor Estim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ript tc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INS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Model /usr/local/openrobots/data/robots/rackham/geom/b21r.ge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RFLEX / 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flex::PomTagging RFLEX_ENABLE_POM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ME rflex POM_FUS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SetRefME r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m::Run POM_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5b87f2"/>
                </a:solidFill>
                <a:latin typeface="Arial"/>
              </a:rPr>
              <a:t>## PLATINE/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tine::InitDriver /dev/ttyR7 9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bd00"/>
                </a:solidFill>
                <a:latin typeface="Arial"/>
              </a:rPr>
              <a:t>pom::AddSE platine Platine Robo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Doc/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s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/modules/pom/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rflex (mainly codels/rflexPostersTaskCodels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ule pla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OM and INSI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M module uses 2 libr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: Position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ntralizes all the estimated positions of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Situ: Internal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ages the graph (the links) of the frames on the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Robot positions mana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l the Motion Estimators (ME) export their robot position for P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produces one fused position for the robot (relative and absol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5400000">
            <a:off x="3474720" y="1782360"/>
            <a:ext cx="307476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Frames Pos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Sensors Estimators (SE) export their sensor position for P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M produces </a:t>
            </a:r>
            <a:r>
              <a:rPr b="0" lang="fr-FR" sz="24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e position for each (sensor) frame on robo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the data must be tagged at acquisition time with its sensor configuration exported by P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5400000">
            <a:off x="3176280" y="1090080"/>
            <a:ext cx="2638440" cy="85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Rackham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3538440" cy="472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20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xample: Rackham’s fr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b21r geometric model 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The common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 Links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040" y="2057040"/>
            <a:ext cx="243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 0.0 0.07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Plati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2 0.0 1.8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362320"/>
            <a:ext cx="25909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Si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-0.04 0.0 0.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0.0 0.0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rom CameraEV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 Rob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late    0.065 -0.08 1.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otate       1.526 0.0 1.52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828440"/>
            <a:ext cx="4038480" cy="20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05120" y="1712880"/>
            <a:ext cx="5410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: Jid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Jidowanki geometric model 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Frame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wheel axis projected onto fl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front SICK (motoriz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enter of rear S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--- arm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z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R6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*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Base*-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|          | fro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+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ount point of robot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position of last link of the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95680" y="1828440"/>
            <a:ext cx="2438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828800"/>
            <a:ext cx="21337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Base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180  0.0  0.92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93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0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15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6Ar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100  0.0  0.12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752480"/>
            <a:ext cx="213336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6DOF force sensor (wr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Fo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Gri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Gripp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camera on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ame Arm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main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in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# Link decla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Front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350 0.0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RearSic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-0.350 0.0  0.27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ink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rom      Robo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       PoleCamer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late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tate    0.0  0.0 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itu within Pom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M module exportes 1 poster per frame « </a:t>
            </a:r>
            <a:r>
              <a:rPr b="0" lang="fr-FR" sz="2800" spc="-1" strike="noStrike">
                <a:solidFill>
                  <a:srgbClr val="12bd00"/>
                </a:solidFill>
                <a:latin typeface="Arial"/>
              </a:rPr>
              <a:t>pom&lt;FramecdName&gt;Po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OM_SENSOR_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def struct POM_SENSOR_PO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date;                                                      /* time of acquisition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   p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sensorToMain;        /* transformation from the sensor's frame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main robot's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Base; 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current local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mainToOrigin;         /* transformation  from the robot's main fram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* the global absolute frame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M_EULER_V      VLocal;                     /* Local velocities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} POM_SENSOR_P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8:01:37Z</dcterms:created>
  <dc:creator>Maxime Cottret</dc:creator>
  <dc:description/>
  <dc:language>en-US</dc:language>
  <cp:lastModifiedBy>Sara Fleury</cp:lastModifiedBy>
  <cp:lastPrinted>1904-01-01T00:00:00Z</cp:lastPrinted>
  <dcterms:modified xsi:type="dcterms:W3CDTF">2006-04-28T17:04:27Z</dcterms:modified>
  <cp:revision>28</cp:revision>
  <dc:subject/>
  <dc:title>POM / INSITU</dc:title>
</cp:coreProperties>
</file>